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2C57-DE0D-407A-B0F3-0DA71E1D4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A3E5-5F42-40A9-A69A-2955D0862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272B-4C4E-468E-BF53-A861F356F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1425-AB25-4785-83F2-D0EEFCAA0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8373-D05C-4BBB-B4DE-FAB6C3CD7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AB06-75C4-4C32-A939-688B384C0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403F-FE06-4A93-BF32-389F871DE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B08B-B789-4621-862E-77DB4A018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7CD5-483F-48AC-8328-3F55FE2F8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17DA-2CDA-4D27-8ED8-341E7763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F696-94A8-46B1-BED6-494AFE59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9706-7C0E-4E2B-9420-4534950C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301CB-E289-4687-9478-F4AA16B771DB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38224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XIII.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Beyond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the 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Context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Free Languag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ight 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85800" y="1219320"/>
            <a:ext cx="7772400" cy="2209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85800" y="1219320"/>
            <a:ext cx="7772400" cy="16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be two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igh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according to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simply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if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895480" y="33526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276720" y="42670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3886200" y="42670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3886200" y="44956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523880" y="42670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1828800" y="42670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1828800" y="44956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971800" y="42670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3580920" y="426708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3581280" y="449568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2133720" y="42670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2133720" y="44956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895480" y="4191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752480" y="4191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505320" y="4191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514600" y="4267080"/>
            <a:ext cx="38088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514600" y="4038480"/>
            <a:ext cx="228600" cy="266760"/>
          </a:xfrm>
          <a:custGeom>
            <a:avLst/>
            <a:gdLst/>
            <a:ahLst/>
            <a:rect l="l" t="t" r="r" b="b"/>
            <a:pathLst>
              <a:path w="144" h="336">
                <a:moveTo>
                  <a:pt x="144" y="0"/>
                </a:moveTo>
                <a:cubicBezTo>
                  <a:pt x="132" y="68"/>
                  <a:pt x="120" y="136"/>
                  <a:pt x="96" y="192"/>
                </a:cubicBezTo>
                <a:cubicBezTo>
                  <a:pt x="72" y="248"/>
                  <a:pt x="36" y="292"/>
                  <a:pt x="0" y="33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2742480" y="4114800"/>
            <a:ext cx="152280" cy="228600"/>
          </a:xfrm>
          <a:custGeom>
            <a:avLst/>
            <a:gdLst/>
            <a:ahLst/>
            <a:rect l="l" t="t" r="r" b="b"/>
            <a:pathLst>
              <a:path w="144" h="336">
                <a:moveTo>
                  <a:pt x="144" y="0"/>
                </a:moveTo>
                <a:cubicBezTo>
                  <a:pt x="132" y="68"/>
                  <a:pt x="120" y="136"/>
                  <a:pt x="96" y="192"/>
                </a:cubicBezTo>
                <a:cubicBezTo>
                  <a:pt x="72" y="248"/>
                  <a:pt x="36" y="292"/>
                  <a:pt x="0" y="33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rot="5400000">
            <a:off x="2781000" y="3314880"/>
            <a:ext cx="152280" cy="2819160"/>
          </a:xfrm>
          <a:custGeom>
            <a:avLst/>
            <a:gdLst>
              <a:gd name="textAreaLeft" fmla="*/ 0 w 152280"/>
              <a:gd name="textAreaRight" fmla="*/ 55080 w 152280"/>
              <a:gd name="textAreaTop" fmla="*/ 73440 h 2819160"/>
              <a:gd name="textAreaBottom" fmla="*/ 27457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752480" y="46483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80880" y="2666880"/>
            <a:ext cx="792504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048120" y="38098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65760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3657600" y="40384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828800" y="38098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13372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2133720" y="40384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743200" y="38098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35268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3352680" y="40384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43828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2438280" y="40384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66688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05740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27672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85800" y="3505320"/>
            <a:ext cx="76212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914400" y="3581280"/>
            <a:ext cx="38088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447920" y="35812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895480" y="35812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743200" y="3809880"/>
            <a:ext cx="0" cy="3049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4343400" y="3505320"/>
            <a:ext cx="4419720" cy="1602720"/>
            <a:chOff x="4343400" y="3505320"/>
            <a:chExt cx="4419720" cy="1602720"/>
          </a:xfrm>
        </p:grpSpPr>
        <p:sp>
          <p:nvSpPr>
            <p:cNvPr id="607" name=""/>
            <p:cNvSpPr/>
            <p:nvPr/>
          </p:nvSpPr>
          <p:spPr>
            <a:xfrm>
              <a:off x="4343400" y="3886200"/>
              <a:ext cx="533520" cy="7621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696080" y="42670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>
              <a:off x="8305920" y="42670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8305920" y="44956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943600" y="42670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>
              <a:off x="6248520" y="42670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6248520" y="44956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858000" y="4267080"/>
              <a:ext cx="304920" cy="304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8001000" y="42670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8001000" y="44956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6552720" y="4267080"/>
              <a:ext cx="180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>
              <a:off x="6553080" y="4495680"/>
              <a:ext cx="180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781680" y="4191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172200" y="4191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924680" y="4191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238880" y="4267080"/>
              <a:ext cx="38124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238880" y="4038480"/>
              <a:ext cx="228600" cy="26676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467480" y="4114800"/>
              <a:ext cx="152640" cy="22860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5400000">
              <a:off x="7200720" y="3314520"/>
              <a:ext cx="152280" cy="28195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3440 h 2819520"/>
                <a:gd name="textAreaBottom" fmla="*/ 2746080 h 2819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943600" y="4648320"/>
              <a:ext cx="28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w 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467480" y="38098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077320" y="38098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8077320" y="40384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248520" y="38098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553080" y="38098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6553080" y="40384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162920" y="3809880"/>
              <a:ext cx="304560" cy="304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772400" y="38098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>
              <a:off x="7772400" y="40384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858000" y="38098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>
              <a:off x="6858000" y="40384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086600" y="3733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477120" y="3733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696080" y="3733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105520" y="3505320"/>
              <a:ext cx="761760" cy="533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334120" y="3581280"/>
              <a:ext cx="38088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867280" y="3581280"/>
              <a:ext cx="175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0120" y="35812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467480" y="3809880"/>
              <a:ext cx="0" cy="3049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2895480" y="51055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380880" y="4267080"/>
            <a:ext cx="3810240" cy="2593440"/>
            <a:chOff x="380880" y="4267080"/>
            <a:chExt cx="3810240" cy="2593440"/>
          </a:xfrm>
        </p:grpSpPr>
        <p:sp>
          <p:nvSpPr>
            <p:cNvPr id="648" name=""/>
            <p:cNvSpPr/>
            <p:nvPr/>
          </p:nvSpPr>
          <p:spPr>
            <a:xfrm>
              <a:off x="1523880" y="60199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>
              <a:off x="1828800" y="601992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1828800" y="624816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971800" y="6019920"/>
              <a:ext cx="304920" cy="304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2133720" y="601992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V="1">
              <a:off x="2133720" y="624816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89548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75248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514600" y="6019920"/>
              <a:ext cx="38088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514600" y="5791320"/>
              <a:ext cx="228600" cy="26676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2742480" y="5867280"/>
              <a:ext cx="152280" cy="22860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rot="5400000">
              <a:off x="2286000" y="5562360"/>
              <a:ext cx="152280" cy="18288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295280" y="640080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828800" y="55627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133720" y="55627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V="1">
              <a:off x="2133720" y="57909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743200" y="5562720"/>
              <a:ext cx="304920" cy="304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438280" y="55627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>
              <a:off x="2438280" y="57909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66688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05740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85800" y="5257800"/>
              <a:ext cx="76212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914400" y="5334120"/>
              <a:ext cx="38088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447920" y="533412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895480" y="5334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743200" y="5562720"/>
              <a:ext cx="0" cy="304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80880" y="4267080"/>
              <a:ext cx="76212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6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4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048120" y="5562720"/>
              <a:ext cx="30456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97180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352680" y="55627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657600" y="5562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657600" y="58672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657600" y="5486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2767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2" name=""/>
          <p:cNvGrpSpPr/>
          <p:nvPr/>
        </p:nvGrpSpPr>
        <p:grpSpPr>
          <a:xfrm>
            <a:off x="4343400" y="5257800"/>
            <a:ext cx="4267080" cy="1602720"/>
            <a:chOff x="4343400" y="5257800"/>
            <a:chExt cx="4267080" cy="1602720"/>
          </a:xfrm>
        </p:grpSpPr>
        <p:sp>
          <p:nvSpPr>
            <p:cNvPr id="683" name=""/>
            <p:cNvSpPr/>
            <p:nvPr/>
          </p:nvSpPr>
          <p:spPr>
            <a:xfrm>
              <a:off x="7467480" y="55627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772400" y="55627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8077320" y="5562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8077320" y="58672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343400" y="5638680"/>
              <a:ext cx="533520" cy="8384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943600" y="60199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>
              <a:off x="6248520" y="601992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6248520" y="624816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858000" y="6019920"/>
              <a:ext cx="304920" cy="304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H="1">
              <a:off x="6552720" y="6019920"/>
              <a:ext cx="180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6553080" y="6248160"/>
              <a:ext cx="180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78168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17220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238880" y="6019920"/>
              <a:ext cx="38124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238880" y="5791320"/>
              <a:ext cx="228600" cy="26676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7467480" y="5867280"/>
              <a:ext cx="152640" cy="22860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rot="5400000">
              <a:off x="6895800" y="5371920"/>
              <a:ext cx="152280" cy="221004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0 h 2210040"/>
                <a:gd name="textAreaBottom" fmla="*/ 2152440 h 221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638680" y="6400800"/>
              <a:ext cx="28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w 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248520" y="55627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553080" y="55627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6553080" y="57909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162920" y="5562720"/>
              <a:ext cx="304560" cy="304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858000" y="55627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V="1">
              <a:off x="6858000" y="57909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08660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4771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105520" y="5257800"/>
              <a:ext cx="76176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334120" y="5334120"/>
              <a:ext cx="38088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867280" y="5334120"/>
              <a:ext cx="175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620120" y="5334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3915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69608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467480" y="5562720"/>
              <a:ext cx="0" cy="304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077320" y="54864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696080" y="60199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62012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eft 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85800" y="1219320"/>
            <a:ext cx="8077320" cy="12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be two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ef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according to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imply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if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895480" y="31240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276720" y="40384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>
            <a:off x="3886200" y="40384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3886200" y="42670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219320" y="40384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H="1">
            <a:off x="1523520" y="403848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1523880" y="426708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971800" y="40384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3580920" y="403848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3581280" y="426708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>
            <a:off x="1828800" y="40384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1828800" y="42670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89548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44792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50532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514600" y="4038480"/>
            <a:ext cx="38088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514600" y="3809880"/>
            <a:ext cx="228600" cy="266760"/>
          </a:xfrm>
          <a:custGeom>
            <a:avLst/>
            <a:gdLst/>
            <a:ahLst/>
            <a:rect l="l" t="t" r="r" b="b"/>
            <a:pathLst>
              <a:path w="144" h="336">
                <a:moveTo>
                  <a:pt x="144" y="0"/>
                </a:moveTo>
                <a:cubicBezTo>
                  <a:pt x="132" y="68"/>
                  <a:pt x="120" y="136"/>
                  <a:pt x="96" y="192"/>
                </a:cubicBezTo>
                <a:cubicBezTo>
                  <a:pt x="72" y="248"/>
                  <a:pt x="36" y="292"/>
                  <a:pt x="0" y="33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H="1">
            <a:off x="2742480" y="3886200"/>
            <a:ext cx="152280" cy="228600"/>
          </a:xfrm>
          <a:custGeom>
            <a:avLst/>
            <a:gdLst/>
            <a:ahLst/>
            <a:rect l="l" t="t" r="r" b="b"/>
            <a:pathLst>
              <a:path w="144" h="336">
                <a:moveTo>
                  <a:pt x="144" y="0"/>
                </a:moveTo>
                <a:cubicBezTo>
                  <a:pt x="132" y="68"/>
                  <a:pt x="120" y="136"/>
                  <a:pt x="96" y="192"/>
                </a:cubicBezTo>
                <a:cubicBezTo>
                  <a:pt x="72" y="248"/>
                  <a:pt x="36" y="292"/>
                  <a:pt x="0" y="33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rot="5400000">
            <a:off x="2628720" y="2933640"/>
            <a:ext cx="228600" cy="3047760"/>
          </a:xfrm>
          <a:custGeom>
            <a:avLst/>
            <a:gdLst>
              <a:gd name="textAreaLeft" fmla="*/ 0 w 228600"/>
              <a:gd name="textAreaRight" fmla="*/ 82440 w 228600"/>
              <a:gd name="textAreaTop" fmla="*/ 79200 h 3047760"/>
              <a:gd name="textAreaBottom" fmla="*/ 2968560 h 304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752480" y="4419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048120" y="35812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65760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365760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523880" y="35812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82880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182880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743200" y="3581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35268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335268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13372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213372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66688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75248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27672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85800" y="3276720"/>
            <a:ext cx="76212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914400" y="3352680"/>
            <a:ext cx="38088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447920" y="33526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895480" y="3352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895480" y="48769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5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04920" y="2362320"/>
            <a:ext cx="830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xc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’ =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xc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’ =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5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438280" y="358128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36232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743200" y="3581280"/>
            <a:ext cx="0" cy="3049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133720" y="403848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05740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4343400" y="3276720"/>
            <a:ext cx="4267080" cy="1678680"/>
            <a:chOff x="4343400" y="3276720"/>
            <a:chExt cx="4267080" cy="1678680"/>
          </a:xfrm>
        </p:grpSpPr>
        <p:sp>
          <p:nvSpPr>
            <p:cNvPr id="769" name=""/>
            <p:cNvSpPr/>
            <p:nvPr/>
          </p:nvSpPr>
          <p:spPr>
            <a:xfrm>
              <a:off x="4343400" y="3657600"/>
              <a:ext cx="533520" cy="7621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rot="5400000">
              <a:off x="7048080" y="3009960"/>
              <a:ext cx="152280" cy="29718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7400 h 2971800"/>
                <a:gd name="textAreaBottom" fmla="*/ 2894400 h 29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715000" y="4495680"/>
              <a:ext cx="28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w 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105520" y="3276720"/>
              <a:ext cx="761760" cy="533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334120" y="3352680"/>
              <a:ext cx="38088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867280" y="335268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010280" y="33526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696080" y="40384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>
              <a:off x="8305920" y="40384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8305920" y="42670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638680" y="40384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5943600" y="40384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5943600" y="42670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391520" y="4038480"/>
              <a:ext cx="304560" cy="304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8001000" y="40384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8001000" y="42670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6248520" y="40384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6248520" y="42670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315200" y="3962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867280" y="3962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924680" y="3962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629400" y="4038480"/>
              <a:ext cx="38088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629400" y="3809880"/>
              <a:ext cx="228600" cy="26676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6857280" y="3886200"/>
              <a:ext cx="152280" cy="22860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467480" y="35812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8077320" y="35812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8077320" y="38098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943600" y="35812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248520" y="35812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>
              <a:off x="6248520" y="38098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162920" y="3581280"/>
              <a:ext cx="304560" cy="304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772400" y="35812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7772400" y="38098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553080" y="35812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>
              <a:off x="6553080" y="38098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08660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17220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69608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858000" y="35812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78168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858000" y="3581280"/>
              <a:ext cx="0" cy="3049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086600" y="40384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010280" y="3962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2" name=""/>
          <p:cNvGrpSpPr/>
          <p:nvPr/>
        </p:nvGrpSpPr>
        <p:grpSpPr>
          <a:xfrm>
            <a:off x="304920" y="4191120"/>
            <a:ext cx="3886200" cy="2517120"/>
            <a:chOff x="304920" y="4191120"/>
            <a:chExt cx="3886200" cy="2517120"/>
          </a:xfrm>
        </p:grpSpPr>
        <p:sp>
          <p:nvSpPr>
            <p:cNvPr id="813" name=""/>
            <p:cNvSpPr/>
            <p:nvPr/>
          </p:nvSpPr>
          <p:spPr>
            <a:xfrm>
              <a:off x="3657600" y="52578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85800" y="5029200"/>
              <a:ext cx="76212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914400" y="5105520"/>
              <a:ext cx="38088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447920" y="510552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895480" y="51055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04920" y="4191120"/>
              <a:ext cx="76176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6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4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219320" y="57913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1523520" y="5791320"/>
              <a:ext cx="180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1523880" y="6019560"/>
              <a:ext cx="180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971800" y="5791320"/>
              <a:ext cx="304920" cy="304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1828800" y="579132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1828800" y="601956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895480" y="5715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447920" y="5715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514600" y="5791320"/>
              <a:ext cx="38088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514600" y="5562720"/>
              <a:ext cx="228600" cy="26676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2742480" y="5638680"/>
              <a:ext cx="152280" cy="22860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rot="5400000">
              <a:off x="2171520" y="5219640"/>
              <a:ext cx="152280" cy="2057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3640 h 2057400"/>
                <a:gd name="textAreaBottom" fmla="*/ 200376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371600" y="62485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523880" y="53341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828800" y="53341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V="1">
              <a:off x="1828800" y="55623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743200" y="5334120"/>
              <a:ext cx="304920" cy="304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133720" y="53341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V="1">
              <a:off x="2133720" y="55623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66688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75248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438280" y="53341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36232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5334120"/>
              <a:ext cx="0" cy="304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133720" y="5791320"/>
              <a:ext cx="30456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057400" y="5715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048120" y="5334120"/>
              <a:ext cx="30456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352680" y="53341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657600" y="53341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657600" y="5638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97180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27672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1" name=""/>
          <p:cNvGrpSpPr/>
          <p:nvPr/>
        </p:nvGrpSpPr>
        <p:grpSpPr>
          <a:xfrm>
            <a:off x="4343400" y="5029200"/>
            <a:ext cx="4267080" cy="1679040"/>
            <a:chOff x="4343400" y="5029200"/>
            <a:chExt cx="4267080" cy="1679040"/>
          </a:xfrm>
        </p:grpSpPr>
        <p:sp>
          <p:nvSpPr>
            <p:cNvPr id="852" name=""/>
            <p:cNvSpPr/>
            <p:nvPr/>
          </p:nvSpPr>
          <p:spPr>
            <a:xfrm>
              <a:off x="4343400" y="5410080"/>
              <a:ext cx="533520" cy="8384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105520" y="5029200"/>
              <a:ext cx="76176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334120" y="5105520"/>
              <a:ext cx="38088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rot="5400000">
              <a:off x="6438600" y="5371920"/>
              <a:ext cx="152280" cy="175284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45720 h 1752840"/>
                <a:gd name="textAreaBottom" fmla="*/ 1707120 h 175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334120" y="6248520"/>
              <a:ext cx="281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w 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867280" y="510552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010280" y="51055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638680" y="57913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5943600" y="579132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V="1">
              <a:off x="5943600" y="601956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6248520" y="579132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V="1">
              <a:off x="6248520" y="601956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867280" y="5715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629400" y="5791320"/>
              <a:ext cx="38088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629400" y="5562720"/>
              <a:ext cx="228600" cy="26676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6857280" y="5638680"/>
              <a:ext cx="152280" cy="22860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943600" y="53341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248520" y="53341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>
              <a:off x="6248520" y="55623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162920" y="5334120"/>
              <a:ext cx="304560" cy="304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553080" y="53341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V="1">
              <a:off x="6553080" y="55623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08660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17220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858000" y="53341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78168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858000" y="5334120"/>
              <a:ext cx="0" cy="304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086600" y="57913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010280" y="5715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467480" y="53341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772400" y="53341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8077320" y="53341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8077320" y="5638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8077320" y="52578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9152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69608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85800" y="121932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85800" y="1143000"/>
            <a:ext cx="784872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be two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according to a rule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imply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if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configuration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ero mo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symbol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simply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85800" y="3352680"/>
            <a:ext cx="7772400" cy="3124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685800" y="3276720"/>
            <a:ext cx="784872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...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equence of configuration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, 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that i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600200" y="4724280"/>
            <a:ext cx="6324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…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85800" y="5334120"/>
            <a:ext cx="7696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mov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685800" y="579132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simply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33520" y="10666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Several consecutive computational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/>
          <p:nvPr/>
        </p:nvSpPr>
        <p:spPr>
          <a:xfrm>
            <a:off x="685800" y="1295280"/>
            <a:ext cx="7772400" cy="2286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85800" y="1219320"/>
            <a:ext cx="7848720" cy="25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85800" y="3733920"/>
            <a:ext cx="7848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.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M as a Language Accep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205740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85800" y="1981080"/>
            <a:ext cx="7848720" cy="23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anguage accepted b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defined as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600200" y="106668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accept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by a sequence of moves from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to a final st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09480" y="3886200"/>
            <a:ext cx="266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2057400" y="5105520"/>
            <a:ext cx="914400" cy="30456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2362320" y="5105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flipV="1">
            <a:off x="2362320" y="5333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971800" y="51055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666880" y="5105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V="1">
            <a:off x="2666880" y="5333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286000" y="5029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914400" y="48006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219320" y="487692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828800" y="48769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209680" y="4876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038480" y="495288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6781680" y="51814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7391520" y="51814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V="1">
            <a:off x="7391520" y="54100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867280" y="51814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172200" y="51814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6172200" y="54100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7086600" y="51814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7086600" y="54100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477120" y="51814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V="1">
            <a:off x="6477120" y="54100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095880" y="5105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7010280" y="5105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724280" y="4876920"/>
            <a:ext cx="914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029200" y="4952880"/>
            <a:ext cx="38088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5638680" y="49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934320" y="4952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609480" y="43434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895480" y="5029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3276720" y="5105520"/>
            <a:ext cx="30456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200400" y="5029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3505320" y="50292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581280" y="54100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581280" y="5105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7696080" y="518148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7620120" y="5105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8001000" y="518148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7924680" y="5105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8229600" y="5105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8305920" y="54864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8305920" y="51814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057400" y="61722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914400" y="586728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219320" y="594360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828800" y="59436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209680" y="59436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038480" y="601992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781680" y="62485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39152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V="1">
            <a:off x="739152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867280" y="62485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617220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flipV="1">
            <a:off x="617220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708660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V="1">
            <a:off x="708660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647712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flipV="1">
            <a:off x="647712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09588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701028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724280" y="59436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029200" y="601992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638680" y="601992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934320" y="6019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09480" y="54100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981080" y="6095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362320" y="617220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286000" y="6095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2590920" y="6095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666880" y="64771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2666880" y="61722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696080" y="62485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762012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8001000" y="62485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92468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8229600" y="6172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8305920" y="65530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8305920" y="6248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M as an Acceptor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2895480" y="15238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4114800" y="1676520"/>
            <a:ext cx="41868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4038480" y="1981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666880" y="1981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124080" y="17524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09480" y="1143000"/>
            <a:ext cx="152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M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3200400" y="2209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3809880" y="12193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 flipV="1">
            <a:off x="4114800" y="2412000"/>
            <a:ext cx="41868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4495680" y="23623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4495680" y="17524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4572000" y="2209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5410080" y="1981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295280" y="1981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5867280" y="17524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5943600" y="2209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6781680" y="1981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5105520" y="27432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371600" y="20574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6858000" y="1676520"/>
            <a:ext cx="41868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553080" y="12193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6858000" y="2412000"/>
            <a:ext cx="41868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705720" y="26668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609480" y="3200400"/>
            <a:ext cx="7925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533520" y="3200400"/>
            <a:ext cx="876276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abb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bb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b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bb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b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b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b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b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981080" y="441972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abb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80880" y="44956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533520" y="502920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ot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609480" y="5029200"/>
            <a:ext cx="7925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rot="10800000">
            <a:off x="3046680" y="1995120"/>
            <a:ext cx="3810960" cy="90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963"/>
                </a:moveTo>
                <a:arcTo wR="10800" hR="10800" stAng="10748076" swAng="10709882"/>
                <a:lnTo>
                  <a:pt x="10800" y="10800"/>
                </a:lnTo>
                <a:close/>
              </a:path>
              <a:path fill="none" w="21600" h="21600">
                <a:moveTo>
                  <a:pt x="1" y="10963"/>
                </a:moveTo>
                <a:arcTo wR="10800" hR="10800" stAng="10748076" swAng="1070988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1752480" y="17524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H="1">
            <a:off x="1828800" y="2209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M as a Computational Model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609480" y="1143000"/>
            <a:ext cx="8077320" cy="20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M;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-place f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unctio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computed b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ovided th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if and only if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09480" y="3200400"/>
            <a:ext cx="266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rot="5400000">
            <a:off x="952560" y="4457520"/>
            <a:ext cx="533160" cy="457200"/>
          </a:xfrm>
          <a:prstGeom prst="rightArrow">
            <a:avLst>
              <a:gd name="adj1" fmla="val 50000"/>
              <a:gd name="adj2" fmla="val 2915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5105520" y="4038480"/>
            <a:ext cx="533160" cy="3812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1600200" y="38098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1905120" y="3809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057400" y="4038480"/>
            <a:ext cx="1143000" cy="3812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438280" y="39625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85800" y="3733920"/>
            <a:ext cx="914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990720" y="3809880"/>
            <a:ext cx="38088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1676520" y="40384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67652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5105520" y="3962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3200400" y="40384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20040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43828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281952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438280" y="4267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819520" y="4267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581280" y="4038480"/>
            <a:ext cx="1143000" cy="3812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962520" y="39625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96252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34340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3962520" y="4267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4343400" y="4267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019920" y="4038480"/>
            <a:ext cx="1143000" cy="3812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400800" y="39625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638680" y="4038480"/>
            <a:ext cx="38124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563868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40080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78168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6400800" y="4267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781680" y="4267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7848720" y="3962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7924680" y="44197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7924680" y="40384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7543800" y="40384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754380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7162920" y="40384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716292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724280" y="4038480"/>
            <a:ext cx="38124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72428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600200" y="51814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1905120" y="51814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057400" y="5410080"/>
            <a:ext cx="1143000" cy="3812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2438280" y="5334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685800" y="5105520"/>
            <a:ext cx="914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990720" y="5181480"/>
            <a:ext cx="38088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1676520" y="54100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1676520" y="5334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200400" y="54100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3200400" y="5334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2438280" y="5410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2819520" y="5410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438280" y="56386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2819520" y="56386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886200" y="5334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3962520" y="57913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962520" y="54100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3581280" y="5410080"/>
            <a:ext cx="38124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581280" y="5334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495680" y="5181480"/>
            <a:ext cx="3886200" cy="718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M as a Computational Model: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762120" y="175248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590920" y="1523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1219320" y="1523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1676520" y="1295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57200" y="106668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M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1752480" y="17524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V="1">
            <a:off x="2590920" y="1954800"/>
            <a:ext cx="49500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286000" y="2209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048120" y="1295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3124080" y="17524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962520" y="1523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8077320" y="1523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4419720" y="1295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4495680" y="17524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334120" y="1523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5791320" y="1295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867280" y="17524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6705720" y="1523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8153280" y="160020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V="1">
            <a:off x="6705720" y="1954800"/>
            <a:ext cx="49500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6400800" y="2209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7162920" y="1295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7238880" y="17524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609480" y="2666880"/>
            <a:ext cx="853452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1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1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362320" y="434340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1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57200" y="44197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09480" y="4952880"/>
            <a:ext cx="815364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ot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 baseline="30000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presents a natural number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 baseline="30000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presents a natural number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85800" y="4952880"/>
            <a:ext cx="7924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flipV="1">
            <a:off x="3962520" y="1954800"/>
            <a:ext cx="49500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3657600" y="2209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Deterministic Turing Machine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DTM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85800" y="2057400"/>
            <a:ext cx="7772400" cy="2057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1600200" y="1066680"/>
            <a:ext cx="6934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eterministic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TM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makes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no more tha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one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move from an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configura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85800" y="1981080"/>
            <a:ext cx="7924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 T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eterministi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M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ach rule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b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t holds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b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contains no rule with the left-hand side equal to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685800" y="441972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609480" y="4419720"/>
            <a:ext cx="792504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For every T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there is an equivalent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609480" y="55627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634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uring Machin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57600" y="4267080"/>
            <a:ext cx="534960" cy="4572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741480" y="426708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5257800" y="4267080"/>
            <a:ext cx="534960" cy="510120"/>
            <a:chOff x="5257800" y="4267080"/>
            <a:chExt cx="534960" cy="510120"/>
          </a:xfrm>
        </p:grpSpPr>
        <p:sp>
          <p:nvSpPr>
            <p:cNvPr id="47" name=""/>
            <p:cNvSpPr/>
            <p:nvPr/>
          </p:nvSpPr>
          <p:spPr>
            <a:xfrm>
              <a:off x="5257800" y="42670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259240" y="4267080"/>
              <a:ext cx="532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4191120" y="4267080"/>
            <a:ext cx="1066680" cy="459720"/>
            <a:chOff x="4191120" y="4267080"/>
            <a:chExt cx="1066680" cy="459720"/>
          </a:xfrm>
        </p:grpSpPr>
        <p:sp>
          <p:nvSpPr>
            <p:cNvPr id="50" name=""/>
            <p:cNvSpPr/>
            <p:nvPr/>
          </p:nvSpPr>
          <p:spPr>
            <a:xfrm>
              <a:off x="4191120" y="4267080"/>
              <a:ext cx="106668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191120" y="426708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1523880" y="4267080"/>
            <a:ext cx="534960" cy="510120"/>
            <a:chOff x="1523880" y="4267080"/>
            <a:chExt cx="534960" cy="510120"/>
          </a:xfrm>
        </p:grpSpPr>
        <p:sp>
          <p:nvSpPr>
            <p:cNvPr id="53" name=""/>
            <p:cNvSpPr/>
            <p:nvPr/>
          </p:nvSpPr>
          <p:spPr>
            <a:xfrm>
              <a:off x="1523880" y="42670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525680" y="4267080"/>
              <a:ext cx="53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2055960" y="4267080"/>
            <a:ext cx="534960" cy="510120"/>
            <a:chOff x="2055960" y="4267080"/>
            <a:chExt cx="534960" cy="510120"/>
          </a:xfrm>
        </p:grpSpPr>
        <p:sp>
          <p:nvSpPr>
            <p:cNvPr id="56" name=""/>
            <p:cNvSpPr/>
            <p:nvPr/>
          </p:nvSpPr>
          <p:spPr>
            <a:xfrm>
              <a:off x="2055960" y="42670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057760" y="4267080"/>
              <a:ext cx="53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2590920" y="4267080"/>
            <a:ext cx="1066680" cy="459720"/>
            <a:chOff x="2590920" y="4267080"/>
            <a:chExt cx="1066680" cy="459720"/>
          </a:xfrm>
        </p:grpSpPr>
        <p:sp>
          <p:nvSpPr>
            <p:cNvPr id="59" name=""/>
            <p:cNvSpPr/>
            <p:nvPr/>
          </p:nvSpPr>
          <p:spPr>
            <a:xfrm>
              <a:off x="2590920" y="4267080"/>
              <a:ext cx="106668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590920" y="426708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4800600" y="3733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wri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62320" y="2057400"/>
            <a:ext cx="1841400" cy="1371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62320" y="1981080"/>
            <a:ext cx="182880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nite Sta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47920" y="3809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066680"/>
            <a:ext cx="80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</a:rPr>
              <a:t>The most powerful computational mode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73240" y="495288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8120" y="5029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6858000" y="4267080"/>
            <a:ext cx="534960" cy="459720"/>
            <a:chOff x="6858000" y="4267080"/>
            <a:chExt cx="534960" cy="459720"/>
          </a:xfrm>
        </p:grpSpPr>
        <p:sp>
          <p:nvSpPr>
            <p:cNvPr id="70" name=""/>
            <p:cNvSpPr/>
            <p:nvPr/>
          </p:nvSpPr>
          <p:spPr>
            <a:xfrm>
              <a:off x="6858000" y="42670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859440" y="42670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5792760" y="4267080"/>
            <a:ext cx="534960" cy="459720"/>
            <a:chOff x="5792760" y="4267080"/>
            <a:chExt cx="534960" cy="459720"/>
          </a:xfrm>
        </p:grpSpPr>
        <p:sp>
          <p:nvSpPr>
            <p:cNvPr id="73" name=""/>
            <p:cNvSpPr/>
            <p:nvPr/>
          </p:nvSpPr>
          <p:spPr>
            <a:xfrm>
              <a:off x="5792760" y="42670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794200" y="42670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326280" y="4267080"/>
            <a:ext cx="534960" cy="459720"/>
            <a:chOff x="6326280" y="4267080"/>
            <a:chExt cx="534960" cy="459720"/>
          </a:xfrm>
        </p:grpSpPr>
        <p:sp>
          <p:nvSpPr>
            <p:cNvPr id="76" name=""/>
            <p:cNvSpPr/>
            <p:nvPr/>
          </p:nvSpPr>
          <p:spPr>
            <a:xfrm>
              <a:off x="6326280" y="42670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327720" y="42670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7238880" y="42670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391520" y="42670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391520" y="47242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3429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76720" y="38098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38098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5638680"/>
            <a:ext cx="5181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= blan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-Tape Turing Mach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609480" y="1066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Turing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chine with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ta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685800" y="16765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486400" y="21337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095880" y="2133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6095880" y="2361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4267080" y="21337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572000" y="2133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 flipV="1">
            <a:off x="4572000" y="2361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181480" y="21337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791320" y="2133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 flipV="1">
            <a:off x="5791320" y="2361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876920" y="2133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flipV="1">
            <a:off x="4876920" y="2361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5105520" y="205740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495680" y="205740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5715000" y="205740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048120" y="1828800"/>
            <a:ext cx="99036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3200400" y="2514600"/>
            <a:ext cx="6858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038480" y="190512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533412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5486400" y="274320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6095880" y="2743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flipV="1">
            <a:off x="6095880" y="29718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4267080" y="274320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4572000" y="2743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4572000" y="29718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181480" y="274320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5791320" y="2743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 flipV="1">
            <a:off x="5791320" y="29718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4876920" y="2743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 flipV="1">
            <a:off x="4876920" y="29718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105520" y="266688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495680" y="266688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5715000" y="266688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4038480" y="251460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334120" y="25146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486400" y="35812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609588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 flipV="1">
            <a:off x="609588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267080" y="35812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457200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 flipV="1">
            <a:off x="457200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5181480" y="3581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579132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 flipV="1">
            <a:off x="579132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87692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487692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5105520" y="35053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4495680" y="35053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5715000" y="35053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cs-CZ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038480" y="33526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4952880" y="28195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685800" y="4114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685800" y="4267080"/>
            <a:ext cx="7772400" cy="10670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685800" y="426708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tape T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valent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33520" y="54100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62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678168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ap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678168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ap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6781680" y="350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ape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7162920" y="29718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400800" y="21337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6400800" y="2057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6400800" y="24382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6400800" y="27432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6400800" y="2666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6400800" y="30481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6400800" y="35812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6400800" y="3505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6400800" y="38862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d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Turing Mach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609480" y="1066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Turing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chine with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ea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685800" y="411480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685800" y="411480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valent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533520" y="5257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67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2971800" y="2819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ead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4191120" y="2819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ea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6248520" y="2819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ead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685800" y="16002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3429000" y="33526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4038480" y="33526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V="1">
            <a:off x="403848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2209680" y="33526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2514600" y="33526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V="1">
            <a:off x="251460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3124080" y="33526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3733920" y="33526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flipV="1">
            <a:off x="373392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2819520" y="33526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flipV="1">
            <a:off x="281952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04812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43828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65760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838080" y="2209680"/>
            <a:ext cx="99072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990720" y="2362320"/>
            <a:ext cx="6858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1828800" y="28954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3276720" y="2895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4648320" y="33526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5257800" y="33526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 flipV="1">
            <a:off x="525780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4343400" y="33526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4952880" y="33526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V="1">
            <a:off x="495288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426708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487692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5562720" y="33526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5562720" y="3276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5562720" y="3657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705720" y="33526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7315200" y="33526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V="1">
            <a:off x="731520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6400800" y="33526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7010280" y="33526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 flipV="1">
            <a:off x="701028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693432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6172200" y="33526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5943600" y="3276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6172200" y="3657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632448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1828800" y="274320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1828800" y="2286000"/>
            <a:ext cx="4724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6553080" y="228600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 rot="5400000">
            <a:off x="2041200" y="230004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7620120" y="33526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7620120" y="3276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7620120" y="3657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M with Two-way Infinite Ta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609480" y="1143000"/>
            <a:ext cx="80773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Turing machine with tape infinite both to the right and to the le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685800" y="441972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685800" y="441972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M with two-way infinite tapes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n equivalent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533520" y="55627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73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685800" y="19051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3809880" y="2362320"/>
            <a:ext cx="99072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3962520" y="2514600"/>
            <a:ext cx="6858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419720" y="365760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5029200" y="36576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 flipV="1">
            <a:off x="5029200" y="3886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3200400" y="365760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3505320" y="36576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 flipV="1">
            <a:off x="3505320" y="3886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4114800" y="365760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4724280" y="36576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 flipV="1">
            <a:off x="4724280" y="3886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3809880" y="36576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 flipV="1">
            <a:off x="3809880" y="3886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4038480" y="358128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429000" y="358128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4648320" y="358128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5334120" y="3657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5334120" y="35812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5334120" y="3962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971800" y="3657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2743200" y="3581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2971800" y="3962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4267080" y="32767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scription of a Turing Mach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09480" y="1143000"/>
            <a:ext cx="78487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Turing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chine representation using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 string over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0,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533520" y="205740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ssume that TM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has the form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 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1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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 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 so that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533520" y="2895480"/>
            <a:ext cx="830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is the mapping from (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3333cc"/>
                </a:solidFill>
                <a:latin typeface="Symbol"/>
                <a:ea typeface="Symbol"/>
              </a:rPr>
              <a:t>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27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) to {</a:t>
            </a:r>
            <a:r>
              <a:rPr b="1" lang="en-US" sz="27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7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7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defined a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2362320" y="3429000"/>
            <a:ext cx="5029200" cy="139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0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1" i="1" lang="en-US" sz="2600" spc="-1" strike="noStrike" baseline="30000">
                <a:solidFill>
                  <a:srgbClr val="ff66ff"/>
                </a:solidFill>
                <a:latin typeface="Times New Roman"/>
              </a:rPr>
              <a:t>i</a:t>
            </a:r>
            <a:r>
              <a:rPr b="1" lang="en-US" sz="2600" spc="-1" strike="noStrike" baseline="30000">
                <a:solidFill>
                  <a:srgbClr val="ff66ff"/>
                </a:solidFill>
                <a:latin typeface="Times New Roman"/>
              </a:rPr>
              <a:t>+1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0 …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1" i="1" lang="en-US" sz="2600" spc="-1" strike="noStrike" baseline="30000">
                <a:solidFill>
                  <a:srgbClr val="ff66ff"/>
                </a:solidFill>
                <a:latin typeface="Times New Roman"/>
              </a:rPr>
              <a:t>i</a:t>
            </a:r>
            <a:r>
              <a:rPr b="1" lang="en-US" sz="2600" spc="-1" strike="noStrike" baseline="30000">
                <a:solidFill>
                  <a:srgbClr val="ff66ff"/>
                </a:solidFill>
                <a:latin typeface="Times New Roman"/>
              </a:rPr>
              <a:t>+1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0 …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533520" y="4724280"/>
            <a:ext cx="5715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27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1" i="1" lang="en-US" sz="27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defin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2362320" y="5181480"/>
            <a:ext cx="5029200" cy="4899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533520" y="5638680"/>
            <a:ext cx="5715000" cy="5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US" sz="2600" spc="-1" strike="noStrike" baseline="-25000">
                <a:solidFill>
                  <a:srgbClr val="ff9933"/>
                </a:solidFill>
                <a:latin typeface="Times New Roman"/>
                <a:ea typeface="Times New Roman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US" sz="2600" spc="-1" strike="noStrike" baseline="-25000">
                <a:solidFill>
                  <a:srgbClr val="ff9933"/>
                </a:solidFill>
                <a:latin typeface="Times New Roman"/>
                <a:ea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 ,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i="1" lang="en-US" sz="2600" spc="-1" strike="noStrike" baseline="-25000">
                <a:solidFill>
                  <a:srgbClr val="ff9933"/>
                </a:solidFill>
                <a:latin typeface="Times New Roman"/>
                <a:ea typeface="Times New Roman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. The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609480" y="6172200"/>
            <a:ext cx="8001000" cy="544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11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US" sz="2600" spc="-1" strike="noStrike" baseline="-25000">
                <a:solidFill>
                  <a:srgbClr val="ff9933"/>
                </a:solidFill>
                <a:latin typeface="Times New Roman"/>
                <a:ea typeface="Times New Roman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US" sz="2600" spc="-1" strike="noStrike" baseline="-25000">
                <a:solidFill>
                  <a:srgbClr val="ff9933"/>
                </a:solidFill>
                <a:latin typeface="Times New Roman"/>
                <a:ea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i="1" lang="en-US" sz="2600" spc="-1" strike="noStrike" baseline="-25000">
                <a:solidFill>
                  <a:srgbClr val="ff9933"/>
                </a:solidFill>
                <a:latin typeface="Times New Roman"/>
                <a:ea typeface="Times New Roman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the description of TM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scription of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M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609480" y="1066680"/>
            <a:ext cx="822960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609480" y="23623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cription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1828800" y="2895480"/>
            <a:ext cx="5562720" cy="12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0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0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85800" y="4130640"/>
            <a:ext cx="7162920" cy="28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11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11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1101001010001000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01000101001000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1010010101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versal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uring Mach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57200" y="1066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Universal TM can simulate every D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85800" y="1646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09480" y="156996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762120" y="2484360"/>
            <a:ext cx="251460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276720" y="294156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800600" y="294156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762120" y="240840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iversal TM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1981080" y="3780000"/>
            <a:ext cx="3124440" cy="459720"/>
          </a:xfrm>
          <a:prstGeom prst="rect">
            <a:avLst/>
          </a:prstGeom>
          <a:solidFill>
            <a:srgbClr val="b2b2b2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cription of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105520" y="3780000"/>
            <a:ext cx="1981080" cy="459720"/>
          </a:xfrm>
          <a:prstGeom prst="rect">
            <a:avLst/>
          </a:prstGeom>
          <a:solidFill>
            <a:srgbClr val="b2b2b2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put string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7467480" y="37036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7543800" y="37800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7543800" y="42750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7086600" y="3780000"/>
            <a:ext cx="4572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647640" y="4419720"/>
            <a:ext cx="8039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versal TM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ads the description of TM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the input string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then simulates the moves that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with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"/>
          <p:cNvSpPr/>
          <p:nvPr/>
        </p:nvSpPr>
        <p:spPr>
          <a:xfrm>
            <a:off x="685800" y="1600200"/>
            <a:ext cx="7772400" cy="3200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Unrestricted Grammar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: Defini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685800" y="1523880"/>
            <a:ext cx="778824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n unrestricted gramma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URG) is a quadrup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n alphab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ontermina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n alphab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erminal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 the for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*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tart nontermin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533520" y="5105520"/>
            <a:ext cx="822960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rictly mathematically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a finite relation from            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ead of 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e write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85800" y="48006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athematical Note on Rul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1600200" y="10666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eneralization of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85800" y="160020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85800" y="1523880"/>
            <a:ext cx="7924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n URG. Le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directly deriv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change of a string by a ru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645840" y="3886200"/>
            <a:ext cx="212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4267080" y="3581280"/>
            <a:ext cx="13734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4724280" y="3581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5181480" y="3581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4724280" y="38862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5181480" y="38862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2895480" y="358128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3352680" y="3581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809880" y="3581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3352680" y="38862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3809880" y="38862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5638680" y="358128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6095880" y="3581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6553080" y="3581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6095880" y="38862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6553080" y="38862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6" name=""/>
          <p:cNvGrpSpPr/>
          <p:nvPr/>
        </p:nvGrpSpPr>
        <p:grpSpPr>
          <a:xfrm>
            <a:off x="2438280" y="4114440"/>
            <a:ext cx="5031000" cy="1371960"/>
            <a:chOff x="2438280" y="4114440"/>
            <a:chExt cx="5031000" cy="1371960"/>
          </a:xfrm>
        </p:grpSpPr>
        <p:sp>
          <p:nvSpPr>
            <p:cNvPr id="1367" name=""/>
            <p:cNvSpPr/>
            <p:nvPr/>
          </p:nvSpPr>
          <p:spPr>
            <a:xfrm flipV="1">
              <a:off x="3886200" y="4114080"/>
              <a:ext cx="2133720" cy="838440"/>
            </a:xfrm>
            <a:custGeom>
              <a:avLst/>
              <a:gdLst>
                <a:gd name="textAreaLeft" fmla="*/ 401040 w 2133720"/>
                <a:gd name="textAreaRight" fmla="*/ 1732680 w 2133720"/>
                <a:gd name="textAreaTop" fmla="*/ 157680 h 838440"/>
                <a:gd name="textAreaBottom" fmla="*/ 68076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438" y="21600"/>
                  </a:lnTo>
                  <a:lnTo>
                    <a:pt x="4162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514600" y="4114800"/>
              <a:ext cx="1676520" cy="838440"/>
            </a:xfrm>
            <a:prstGeom prst="parallelogram">
              <a:avLst>
                <a:gd name="adj" fmla="val 4638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 flipH="1">
              <a:off x="2819520" y="419112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124080" y="426744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572000" y="426744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 flipH="1">
              <a:off x="5714280" y="4114800"/>
              <a:ext cx="1676520" cy="838440"/>
            </a:xfrm>
            <a:prstGeom prst="parallelogram">
              <a:avLst>
                <a:gd name="adj" fmla="val 4638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 flipH="1">
              <a:off x="3657240" y="419112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943600" y="419112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H="1">
              <a:off x="6400080" y="426744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858000" y="419112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3809880" y="5029200"/>
              <a:ext cx="2286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267080" y="502920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4724280" y="502920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26708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472428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438280" y="5029200"/>
              <a:ext cx="13734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895480" y="502920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352680" y="502920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89548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335268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095880" y="5029200"/>
              <a:ext cx="13734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6553080" y="502920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7010280" y="502920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55308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701028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181480" y="502920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638680" y="502920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18148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63868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6" name=""/>
          <p:cNvGrpSpPr/>
          <p:nvPr/>
        </p:nvGrpSpPr>
        <p:grpSpPr>
          <a:xfrm>
            <a:off x="533520" y="5562720"/>
            <a:ext cx="7924680" cy="940680"/>
            <a:chOff x="533520" y="5562720"/>
            <a:chExt cx="7924680" cy="940680"/>
          </a:xfrm>
        </p:grpSpPr>
        <p:sp>
          <p:nvSpPr>
            <p:cNvPr id="1397" name=""/>
            <p:cNvSpPr/>
            <p:nvPr/>
          </p:nvSpPr>
          <p:spPr>
            <a:xfrm>
              <a:off x="533520" y="5562720"/>
              <a:ext cx="7924680" cy="94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49"/>
                </a:spcBef>
                <a:spcAft>
                  <a:spcPts val="6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e: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i="1" lang="en-US" sz="2600" spc="-1" strike="noStrike" baseline="3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* and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are defined by analogy with the corresponding definitions in terms of CFGs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09480" y="55627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Unrestricted Grammar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609480" y="114300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S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636840" y="2590920"/>
            <a:ext cx="1821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09480" y="3048120"/>
            <a:ext cx="7925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4118400" y="4876920"/>
            <a:ext cx="66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609480" y="3581280"/>
            <a:ext cx="784872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B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B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a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a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a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7" name=""/>
          <p:cNvGrpSpPr/>
          <p:nvPr/>
        </p:nvGrpSpPr>
        <p:grpSpPr>
          <a:xfrm>
            <a:off x="685800" y="5410080"/>
            <a:ext cx="7848720" cy="618840"/>
            <a:chOff x="685800" y="5410080"/>
            <a:chExt cx="7848720" cy="618840"/>
          </a:xfrm>
        </p:grpSpPr>
        <p:sp>
          <p:nvSpPr>
            <p:cNvPr id="1408" name=""/>
            <p:cNvSpPr/>
            <p:nvPr/>
          </p:nvSpPr>
          <p:spPr>
            <a:xfrm>
              <a:off x="685800" y="54100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685800" y="5410080"/>
              <a:ext cx="7848720" cy="61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Note: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en-US" sz="3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3000" spc="-1" strike="noStrike" baseline="6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0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"/>
          <p:cNvSpPr/>
          <p:nvPr/>
        </p:nvSpPr>
        <p:spPr>
          <a:xfrm>
            <a:off x="685800" y="525780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Recursively Enumerable Languag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685800" y="2666880"/>
            <a:ext cx="7772400" cy="838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685800" y="2590920"/>
            <a:ext cx="76960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is an T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609480" y="342900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714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762120" y="5181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685800" y="52416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The fundamental models 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sivel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enumerable languages 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693720" y="6171480"/>
            <a:ext cx="414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Unrestricted gramm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5054040" y="6171480"/>
            <a:ext cx="318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uring Mach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685800" y="1219320"/>
            <a:ext cx="7772400" cy="1295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685800" y="1143000"/>
            <a:ext cx="7772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be a language.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surcively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numerabl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there exists 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 Turing machin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685800" y="3962520"/>
            <a:ext cx="7772400" cy="838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685800" y="3886200"/>
            <a:ext cx="76960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is an UR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609480" y="47242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715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ring Machin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219320"/>
            <a:ext cx="7772400" cy="4114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143000"/>
            <a:ext cx="777240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ring machin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TM) is a 6-tupl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ite set of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alphab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pe alphabe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b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55627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hematically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relation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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ead of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b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e wri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b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52578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athematic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"/>
          <p:cNvSpPr/>
          <p:nvPr/>
        </p:nvSpPr>
        <p:spPr>
          <a:xfrm>
            <a:off x="685800" y="1600200"/>
            <a:ext cx="7772400" cy="19051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Context-Sensitive Grammar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685800" y="1523880"/>
            <a:ext cx="77882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n unrestricted grammar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context-sensitiv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or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length-increasin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CSG) if every rule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atisfies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|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|y|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1600200" y="10666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striction of U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68580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609480" y="3581280"/>
            <a:ext cx="80773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* an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re defined by analogy with the definitions of the corresponding notions on URG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Bounded Automat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4648320" y="4648320"/>
            <a:ext cx="534960" cy="4572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4731840" y="464832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9" name=""/>
          <p:cNvGrpSpPr/>
          <p:nvPr/>
        </p:nvGrpSpPr>
        <p:grpSpPr>
          <a:xfrm>
            <a:off x="6248520" y="4648320"/>
            <a:ext cx="534960" cy="510120"/>
            <a:chOff x="6248520" y="4648320"/>
            <a:chExt cx="534960" cy="510120"/>
          </a:xfrm>
        </p:grpSpPr>
        <p:sp>
          <p:nvSpPr>
            <p:cNvPr id="1440" name=""/>
            <p:cNvSpPr/>
            <p:nvPr/>
          </p:nvSpPr>
          <p:spPr>
            <a:xfrm>
              <a:off x="6248520" y="464832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6249960" y="4648320"/>
              <a:ext cx="532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2" name=""/>
          <p:cNvGrpSpPr/>
          <p:nvPr/>
        </p:nvGrpSpPr>
        <p:grpSpPr>
          <a:xfrm>
            <a:off x="5181480" y="4648320"/>
            <a:ext cx="1066680" cy="459720"/>
            <a:chOff x="5181480" y="4648320"/>
            <a:chExt cx="1066680" cy="459720"/>
          </a:xfrm>
        </p:grpSpPr>
        <p:sp>
          <p:nvSpPr>
            <p:cNvPr id="1443" name=""/>
            <p:cNvSpPr/>
            <p:nvPr/>
          </p:nvSpPr>
          <p:spPr>
            <a:xfrm>
              <a:off x="5181480" y="4648320"/>
              <a:ext cx="106668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181480" y="46483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5" name=""/>
          <p:cNvGrpSpPr/>
          <p:nvPr/>
        </p:nvGrpSpPr>
        <p:grpSpPr>
          <a:xfrm>
            <a:off x="2514600" y="4648320"/>
            <a:ext cx="534960" cy="510120"/>
            <a:chOff x="2514600" y="4648320"/>
            <a:chExt cx="534960" cy="510120"/>
          </a:xfrm>
        </p:grpSpPr>
        <p:sp>
          <p:nvSpPr>
            <p:cNvPr id="1446" name=""/>
            <p:cNvSpPr/>
            <p:nvPr/>
          </p:nvSpPr>
          <p:spPr>
            <a:xfrm>
              <a:off x="2514600" y="464832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516400" y="4648320"/>
              <a:ext cx="53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8" name=""/>
          <p:cNvGrpSpPr/>
          <p:nvPr/>
        </p:nvGrpSpPr>
        <p:grpSpPr>
          <a:xfrm>
            <a:off x="3046320" y="4648320"/>
            <a:ext cx="534960" cy="510120"/>
            <a:chOff x="3046320" y="4648320"/>
            <a:chExt cx="534960" cy="510120"/>
          </a:xfrm>
        </p:grpSpPr>
        <p:sp>
          <p:nvSpPr>
            <p:cNvPr id="1449" name=""/>
            <p:cNvSpPr/>
            <p:nvPr/>
          </p:nvSpPr>
          <p:spPr>
            <a:xfrm>
              <a:off x="3046320" y="464832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3048120" y="4648320"/>
              <a:ext cx="53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1" name=""/>
          <p:cNvGrpSpPr/>
          <p:nvPr/>
        </p:nvGrpSpPr>
        <p:grpSpPr>
          <a:xfrm>
            <a:off x="3581280" y="4648320"/>
            <a:ext cx="1066680" cy="459720"/>
            <a:chOff x="3581280" y="4648320"/>
            <a:chExt cx="1066680" cy="459720"/>
          </a:xfrm>
        </p:grpSpPr>
        <p:sp>
          <p:nvSpPr>
            <p:cNvPr id="1452" name=""/>
            <p:cNvSpPr/>
            <p:nvPr/>
          </p:nvSpPr>
          <p:spPr>
            <a:xfrm>
              <a:off x="3581280" y="4648320"/>
              <a:ext cx="106668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3581280" y="46483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4" name=""/>
          <p:cNvSpPr/>
          <p:nvPr/>
        </p:nvSpPr>
        <p:spPr>
          <a:xfrm>
            <a:off x="4952880" y="41911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wri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3352680" y="2438280"/>
            <a:ext cx="1841760" cy="1371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352680" y="2362320"/>
            <a:ext cx="182880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nite Sta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2438280" y="4191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457200" y="106668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A Turing machine with a Tape Bounded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 by the Length of the Input St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963960" y="5334120"/>
            <a:ext cx="198108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4038480" y="54100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1" name=""/>
          <p:cNvGrpSpPr/>
          <p:nvPr/>
        </p:nvGrpSpPr>
        <p:grpSpPr>
          <a:xfrm>
            <a:off x="6783480" y="4648320"/>
            <a:ext cx="534960" cy="459720"/>
            <a:chOff x="6783480" y="4648320"/>
            <a:chExt cx="534960" cy="459720"/>
          </a:xfrm>
        </p:grpSpPr>
        <p:sp>
          <p:nvSpPr>
            <p:cNvPr id="1462" name=""/>
            <p:cNvSpPr/>
            <p:nvPr/>
          </p:nvSpPr>
          <p:spPr>
            <a:xfrm>
              <a:off x="6783480" y="464832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784920" y="464832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4" name=""/>
          <p:cNvSpPr/>
          <p:nvPr/>
        </p:nvSpPr>
        <p:spPr>
          <a:xfrm>
            <a:off x="4267080" y="3809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4267080" y="41911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4952880" y="41911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inear Bounded Automaton: Defini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762120" y="2133720"/>
            <a:ext cx="7772400" cy="914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762120" y="2057400"/>
            <a:ext cx="7772400" cy="9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inear bounded automato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LBA) is a TM that cannot extend its tape by any rul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1600200" y="106668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With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 on its tape,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M’s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 tape is restricted to |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w|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squares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76212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685800" y="3124080"/>
            <a:ext cx="5791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Accepted language: Illustr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1905120" y="4114800"/>
            <a:ext cx="182880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 flipH="1">
            <a:off x="2209320" y="411480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 flipV="1">
            <a:off x="2209680" y="434340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3733920" y="411480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 flipH="1">
            <a:off x="2514600" y="411480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 flipV="1">
            <a:off x="2514600" y="434340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2438280" y="4038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762120" y="380988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1066680" y="3886200"/>
            <a:ext cx="38124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1676520" y="388620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2057400" y="3886200"/>
            <a:ext cx="144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4419720" y="3886200"/>
            <a:ext cx="533160" cy="457200"/>
          </a:xfrm>
          <a:prstGeom prst="rightArrow">
            <a:avLst>
              <a:gd name="adj1" fmla="val 50000"/>
              <a:gd name="adj2" fmla="val 2915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7238880" y="41911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 flipH="1">
            <a:off x="7848720" y="419112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 flipV="1">
            <a:off x="7848720" y="441936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6324480" y="41911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flipH="1">
            <a:off x="6629400" y="419112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 flipV="1">
            <a:off x="6629400" y="441936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 flipH="1">
            <a:off x="7543800" y="419112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 flipV="1">
            <a:off x="7543800" y="441936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 flipH="1">
            <a:off x="6934320" y="419112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 flipV="1">
            <a:off x="6934320" y="441936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655308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746748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5181480" y="38862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5486400" y="396252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6095880" y="3962520"/>
            <a:ext cx="12956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7391520" y="3962520"/>
            <a:ext cx="144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3657600" y="4038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8153280" y="41911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807732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 flipH="1">
            <a:off x="2819520" y="411480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 flipV="1">
            <a:off x="2819520" y="434340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 flipH="1">
            <a:off x="3123720" y="411480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 flipV="1">
            <a:off x="3124080" y="434340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 flipH="1">
            <a:off x="3429000" y="411480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 flipV="1">
            <a:off x="3429000" y="434340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1905120" y="4495680"/>
            <a:ext cx="1828800" cy="180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6324480" y="4572000"/>
            <a:ext cx="1828800" cy="144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2971800" y="5029200"/>
            <a:ext cx="403848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e same leng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 flipH="1" flipV="1">
            <a:off x="2971440" y="457200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 flipV="1">
            <a:off x="6629400" y="4648320"/>
            <a:ext cx="6094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"/>
          <p:cNvSpPr/>
          <p:nvPr/>
        </p:nvSpPr>
        <p:spPr>
          <a:xfrm>
            <a:off x="685800" y="525780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Context-sensitive Languag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685800" y="2666880"/>
            <a:ext cx="7772400" cy="838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685800" y="2590920"/>
            <a:ext cx="76960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S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is an LB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609480" y="342900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732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762120" y="5181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685800" y="5257080"/>
            <a:ext cx="80773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The fundamental models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ext-sensitiv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anguages 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766080" y="5790600"/>
            <a:ext cx="517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Context-sensitive gramm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762480" y="6171480"/>
            <a:ext cx="4848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Linear bounded automat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685800" y="1219320"/>
            <a:ext cx="7772400" cy="1295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685800" y="1143000"/>
            <a:ext cx="7772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be a language.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text-sensitiv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there exists 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xt-sensitive gramma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685800" y="3962520"/>
            <a:ext cx="7772400" cy="838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685800" y="3886200"/>
            <a:ext cx="76960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B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is an CS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609480" y="47242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734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"/>
          <p:cNvSpPr/>
          <p:nvPr/>
        </p:nvSpPr>
        <p:spPr>
          <a:xfrm>
            <a:off x="685800" y="243828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Right-Linear Grammar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: Defini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685800" y="2362320"/>
            <a:ext cx="77882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 CFG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right-linear gramma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RLG) if every rule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atisfies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* </a:t>
            </a:r>
            <a:r>
              <a:rPr b="1" lang="en-US" sz="3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1600200" y="1066680"/>
            <a:ext cx="739152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CFG in which every rule has a string of terminals followed by no more that one nonterminal on the right-hand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609480" y="38098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609480" y="4191120"/>
            <a:ext cx="8534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609480" y="4952880"/>
            <a:ext cx="7925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118400" y="6019920"/>
            <a:ext cx="66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609480" y="6308640"/>
            <a:ext cx="784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609480" y="5334120"/>
            <a:ext cx="7925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609480" y="5715000"/>
            <a:ext cx="7925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"/>
          <p:cNvSpPr/>
          <p:nvPr/>
        </p:nvSpPr>
        <p:spPr>
          <a:xfrm>
            <a:off x="685800" y="3809880"/>
            <a:ext cx="7772400" cy="1143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mmars for Regular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685800" y="1219320"/>
            <a:ext cx="7772400" cy="838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685800" y="1143000"/>
            <a:ext cx="76960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L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is an F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609480" y="19810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575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76212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685800" y="3885480"/>
            <a:ext cx="80773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Grammars for regular languages 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1832040" y="4190400"/>
            <a:ext cx="501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ight-linear gramm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685800" y="2514600"/>
            <a:ext cx="7772400" cy="838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685800" y="2438280"/>
            <a:ext cx="76960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is a RL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609480" y="32767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583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mmars: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2666880" y="1371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ramma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4876920" y="13716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orm of rul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2819520" y="220968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Unrestrict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4876920" y="190512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2819520" y="2971800"/>
            <a:ext cx="205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text-sensitiv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4876920" y="2895480"/>
            <a:ext cx="36576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|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|y|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2819520" y="41148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text-fre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4876920" y="3809880"/>
            <a:ext cx="350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2819520" y="50292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ight-Line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4876920" y="4724280"/>
            <a:ext cx="350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609480" y="1371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anguage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762120" y="1981080"/>
            <a:ext cx="205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cursively enumer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762120" y="2971800"/>
            <a:ext cx="205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text-sensitiv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762120" y="41148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text-fre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685800" y="50292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gul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2743200" y="137160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4876920" y="137160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685800" y="137160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685800" y="1371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8458200" y="137160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 flipH="1"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 flipH="1">
            <a:off x="685800" y="4800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685800" y="5715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 flipV="1">
            <a:off x="533520" y="1981080"/>
            <a:ext cx="0" cy="373392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 flipH="1" rot="16200000">
            <a:off x="-1302480" y="3817080"/>
            <a:ext cx="3156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General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 flipV="1">
            <a:off x="8610480" y="1981080"/>
            <a:ext cx="0" cy="3733920"/>
          </a:xfrm>
          <a:prstGeom prst="line">
            <a:avLst/>
          </a:prstGeom>
          <a:ln w="7632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 flipH="1" rot="5400000">
            <a:off x="7290360" y="3359520"/>
            <a:ext cx="3156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Restri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utomata: Summary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3962520" y="15238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ccepting Devi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4572000" y="2133720"/>
            <a:ext cx="205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uring machi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4191120" y="3124080"/>
            <a:ext cx="2971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Linear bounded automat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4572000" y="4038480"/>
            <a:ext cx="205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ushdown automat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4572000" y="4952880"/>
            <a:ext cx="205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inite automat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1905120" y="15238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anguage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2057400" y="2133720"/>
            <a:ext cx="205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cursively enumer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2057400" y="3124080"/>
            <a:ext cx="205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text-sensitiv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2057400" y="426708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text-fre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1981080" y="518148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gul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4038480" y="152388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7315200" y="152388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1981080" y="152388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1981080" y="1523880"/>
            <a:ext cx="533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1981080" y="2133720"/>
            <a:ext cx="533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1981080" y="3048120"/>
            <a:ext cx="533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 flipH="1">
            <a:off x="1980720" y="4038480"/>
            <a:ext cx="533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 flipH="1">
            <a:off x="1980720" y="4952880"/>
            <a:ext cx="533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1981080" y="5867280"/>
            <a:ext cx="533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 flipV="1">
            <a:off x="1828800" y="2133360"/>
            <a:ext cx="0" cy="373356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 flipH="1" rot="16200000">
            <a:off x="-7200" y="3969360"/>
            <a:ext cx="3156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General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 flipV="1">
            <a:off x="7483320" y="2133360"/>
            <a:ext cx="0" cy="3733560"/>
          </a:xfrm>
          <a:prstGeom prst="line">
            <a:avLst/>
          </a:prstGeom>
          <a:ln w="7632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 flipH="1" rot="5400000">
            <a:off x="6163200" y="3511800"/>
            <a:ext cx="3156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Restri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Chomsky Hierarchy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1219320" y="1219320"/>
            <a:ext cx="6476760" cy="2361960"/>
          </a:xfrm>
          <a:prstGeom prst="ellipse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1447920" y="1447920"/>
            <a:ext cx="5029200" cy="190476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1676520" y="1600200"/>
            <a:ext cx="3581280" cy="160020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1905120" y="1828800"/>
            <a:ext cx="1828800" cy="11430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304920" y="3276720"/>
            <a:ext cx="3276360" cy="727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regular languages =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Type 3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 flipH="1">
            <a:off x="1600200" y="2743200"/>
            <a:ext cx="533520" cy="533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2209680" y="22096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2666880" y="19810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2895480" y="23623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4191120" y="19810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4038480" y="25146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5638680" y="20574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5410080" y="25909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7010280" y="24382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7010280" y="12193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7391520" y="15238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7391520" y="1295280"/>
            <a:ext cx="838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1295280" y="4495680"/>
            <a:ext cx="3276720" cy="10443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context-free languages  =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Type 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4876920" y="4495680"/>
            <a:ext cx="3276360" cy="10443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context-sensitive languages =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Type 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5410080" y="3200400"/>
            <a:ext cx="3276720" cy="10443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recursive enumerable languages =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Type 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 flipH="1">
            <a:off x="3962160" y="3124080"/>
            <a:ext cx="228600" cy="1371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4724280" y="3276720"/>
            <a:ext cx="381240" cy="1218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7467480" y="2819520"/>
            <a:ext cx="381240" cy="380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380880" y="5867280"/>
            <a:ext cx="8382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304920" y="6019920"/>
            <a:ext cx="8534160" cy="7034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ype 3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ype 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ype 1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ype 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6629400" y="19051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553080" y="26668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"/>
          <p:cNvSpPr/>
          <p:nvPr/>
        </p:nvSpPr>
        <p:spPr>
          <a:xfrm>
            <a:off x="685800" y="2209680"/>
            <a:ext cx="7772400" cy="914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SelfAcceptanc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468360" y="1125360"/>
            <a:ext cx="849636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2700" spc="-1" strike="noStrike" baseline="-25000">
                <a:solidFill>
                  <a:srgbClr val="ff0000"/>
                </a:solidFill>
                <a:latin typeface="Times New Roman"/>
              </a:rPr>
              <a:t>SelfAcceptance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 is the language over {0, 1}</a:t>
            </a:r>
            <a:r>
              <a:rPr b="1" lang="en-US" sz="27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, which contains a string </a:t>
            </a:r>
            <a:r>
              <a:rPr b="1" lang="cs-CZ" sz="27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), if and only DTM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 accepts </a:t>
            </a:r>
            <a:r>
              <a:rPr b="1" lang="en-US" sz="27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685800" y="2209680"/>
            <a:ext cx="7924680" cy="8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SelfAcceptance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DTM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609480" y="31240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2971800" y="3262320"/>
            <a:ext cx="13716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2971800" y="32767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4648320" y="3352680"/>
            <a:ext cx="990360" cy="457200"/>
          </a:xfrm>
          <a:prstGeom prst="rightArrow">
            <a:avLst>
              <a:gd name="adj1" fmla="val 50000"/>
              <a:gd name="adj2" fmla="val 5415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8" name=""/>
          <p:cNvGrpSpPr/>
          <p:nvPr/>
        </p:nvGrpSpPr>
        <p:grpSpPr>
          <a:xfrm>
            <a:off x="5562720" y="3124080"/>
            <a:ext cx="2971800" cy="826920"/>
            <a:chOff x="5562720" y="3124080"/>
            <a:chExt cx="2971800" cy="826920"/>
          </a:xfrm>
        </p:grpSpPr>
        <p:sp>
          <p:nvSpPr>
            <p:cNvPr id="1659" name=""/>
            <p:cNvSpPr/>
            <p:nvPr/>
          </p:nvSpPr>
          <p:spPr>
            <a:xfrm>
              <a:off x="5638680" y="3124080"/>
              <a:ext cx="266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escription o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5562720" y="3430440"/>
              <a:ext cx="29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110…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1" name=""/>
          <p:cNvSpPr/>
          <p:nvPr/>
        </p:nvSpPr>
        <p:spPr>
          <a:xfrm>
            <a:off x="533520" y="533412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T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cept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110…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2" name=""/>
          <p:cNvGrpSpPr/>
          <p:nvPr/>
        </p:nvGrpSpPr>
        <p:grpSpPr>
          <a:xfrm>
            <a:off x="4114800" y="4495680"/>
            <a:ext cx="4724280" cy="1175760"/>
            <a:chOff x="4114800" y="4495680"/>
            <a:chExt cx="4724280" cy="1175760"/>
          </a:xfrm>
        </p:grpSpPr>
        <p:sp>
          <p:nvSpPr>
            <p:cNvPr id="1663" name=""/>
            <p:cNvSpPr/>
            <p:nvPr/>
          </p:nvSpPr>
          <p:spPr>
            <a:xfrm>
              <a:off x="8077320" y="4800600"/>
              <a:ext cx="30456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4114800" y="4495680"/>
              <a:ext cx="13716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5486400" y="457200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6172200" y="45720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80010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5715000" y="480060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563868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6858000" y="47242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6934320" y="51055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693432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4114800" y="449568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M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6019920" y="4800600"/>
              <a:ext cx="30456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59436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6324480" y="480060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24852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6629400" y="480060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655308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7315200" y="47242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7543800" y="51055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754380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772400" y="480060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769608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8305920" y="47242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8381880" y="51055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838188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 flipV="1" rot="5400000">
              <a:off x="6819840" y="3999240"/>
              <a:ext cx="152280" cy="23623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61560 h 2362320"/>
                <a:gd name="textAreaBottom" fmla="*/ 2300760 h 236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6553080" y="5181480"/>
              <a:ext cx="990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0" name=""/>
          <p:cNvGrpSpPr/>
          <p:nvPr/>
        </p:nvGrpSpPr>
        <p:grpSpPr>
          <a:xfrm>
            <a:off x="914400" y="5867280"/>
            <a:ext cx="7391520" cy="1055160"/>
            <a:chOff x="914400" y="5867280"/>
            <a:chExt cx="7391520" cy="1055160"/>
          </a:xfrm>
        </p:grpSpPr>
        <p:sp>
          <p:nvSpPr>
            <p:cNvPr id="1691" name=""/>
            <p:cNvSpPr/>
            <p:nvPr/>
          </p:nvSpPr>
          <p:spPr>
            <a:xfrm>
              <a:off x="914400" y="6308640"/>
              <a:ext cx="3429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30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SelfAcceptanc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4876920" y="6308640"/>
              <a:ext cx="3429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30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SelfAcceptanc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 flipH="1">
              <a:off x="1904760" y="5867280"/>
              <a:ext cx="2514600" cy="533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3200400" y="5943600"/>
              <a:ext cx="9144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Y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4724280" y="5867280"/>
              <a:ext cx="2362320" cy="6098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 flipH="1">
              <a:off x="5029200" y="5943600"/>
              <a:ext cx="9144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7" name=""/>
          <p:cNvSpPr/>
          <p:nvPr/>
        </p:nvSpPr>
        <p:spPr>
          <a:xfrm>
            <a:off x="3809880" y="4038480"/>
            <a:ext cx="2667240" cy="304920"/>
          </a:xfrm>
          <a:prstGeom prst="downArrow">
            <a:avLst>
              <a:gd name="adj1" fmla="val 49278"/>
              <a:gd name="adj2" fmla="val 5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pretation of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2971800"/>
            <a:ext cx="8305920" cy="10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80000"/>
              </a:lnSpc>
              <a:spcAft>
                <a:spcPts val="601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current state and tape symbol ar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respectively, then replace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hift the head a square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ght, and chang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4800600"/>
            <a:ext cx="815364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80000"/>
              </a:lnSpc>
              <a:spcAft>
                <a:spcPts val="601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current state and tape symbol ar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respectively, then replace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hift the head a square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t, and chang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8120" y="44197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4419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657600" y="4647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44197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33720" y="4419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133720" y="4647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43200" y="44197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52680" y="4419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3352680" y="4647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38280" y="4419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438280" y="4647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05740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41148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419112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41911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95480" y="4191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419112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67480" y="44197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77320" y="4419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8077320" y="4647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44197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553080" y="4419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553080" y="4647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162920" y="4419720"/>
            <a:ext cx="30456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772400" y="4419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7772400" y="4647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0" y="4419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858000" y="4647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7712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9608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05520" y="41148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10080" y="4191120"/>
            <a:ext cx="38124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920" y="41911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0120" y="4191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4800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8120" y="62485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65760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65760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62485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3372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13372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43200" y="62485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35268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35268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3828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43828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6688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5740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9436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601992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00200" y="60199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6019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267080" y="601992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467480" y="62485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07732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807732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248520" y="62485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5308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655308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6248520"/>
            <a:ext cx="30456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77240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777240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685800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08660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7712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9608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05520" y="59436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10080" y="6019920"/>
            <a:ext cx="38124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19920" y="601992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10280" y="6019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9480" y="1143000"/>
            <a:ext cx="82296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80000"/>
              </a:lnSpc>
              <a:spcAft>
                <a:spcPts val="601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current state and tape symbol ar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respectively, then replace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hang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keep the he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tion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8120" y="25909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57600" y="25909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657600" y="28191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28800" y="25909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33720" y="25909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133720" y="28191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5909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352680" y="25909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352680" y="28191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438280" y="25909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2438280" y="28191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66688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5740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7672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22860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90720" y="236232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00200" y="23623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95480" y="23623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267080" y="236232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467480" y="25909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077320" y="25909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8077320" y="28191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248520" y="25909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53080" y="25909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6553080" y="28191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162920" y="2590920"/>
            <a:ext cx="30456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772400" y="25909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7772400" y="28191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0" y="25909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6858000" y="28191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47712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9608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05520" y="22860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410080" y="2362320"/>
            <a:ext cx="38124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19920" y="23623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315200" y="23623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SelfAcceptanc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685800" y="1219320"/>
            <a:ext cx="7772400" cy="609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685800" y="1219320"/>
            <a:ext cx="81532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SelfAcceptanc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accept by some T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609480" y="1905120"/>
            <a:ext cx="7848720" cy="20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idea)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nstruct a DT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i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lace an input str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imulate an activity of a universal T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SelfAccept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us theorem hol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609480" y="38862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5791320" y="480060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1905120" y="4495680"/>
            <a:ext cx="129528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3200400" y="45720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3886200" y="45720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571500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3429000" y="48006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335268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4572000" y="4724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4648320" y="5105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4648320" y="4800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1828800" y="4495680"/>
            <a:ext cx="129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3733920" y="480060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365760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4038480" y="48006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396252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4343400" y="48006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426708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5029200" y="4724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5257800" y="5105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5257800" y="4800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5486400" y="48006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541008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6019920" y="47242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6095880" y="4800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8153280" y="57913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3200400" y="56386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3886200" y="5638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807732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3429000" y="57913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335268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4572000" y="5715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4648320" y="6095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4648320" y="57913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3733920" y="5791320"/>
            <a:ext cx="30456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365760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4038480" y="57913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396252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4343400" y="57913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426708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5029200" y="5715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5257800" y="6095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5257800" y="57913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5486400" y="57913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541008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8381880" y="5715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8458200" y="6095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8458200" y="57913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5791320" y="5791320"/>
            <a:ext cx="30456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571500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6934320" y="5715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7010280" y="6095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7010280" y="57913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6095880" y="57913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601992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6400800" y="57913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632448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6705720" y="5791320"/>
            <a:ext cx="30456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662940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7391520" y="5715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7620120" y="6095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7620120" y="57913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7848720" y="5791320"/>
            <a:ext cx="30456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777240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1905120" y="5562720"/>
            <a:ext cx="129528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1905120" y="55627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 rot="5400000">
            <a:off x="4533840" y="4991040"/>
            <a:ext cx="152640" cy="2362320"/>
          </a:xfrm>
          <a:custGeom>
            <a:avLst/>
            <a:gdLst>
              <a:gd name="textAreaLeft" fmla="*/ 0 w 152640"/>
              <a:gd name="textAreaRight" fmla="*/ 55080 w 15264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 rot="5400000">
            <a:off x="6895440" y="4991040"/>
            <a:ext cx="152640" cy="2361960"/>
          </a:xfrm>
          <a:custGeom>
            <a:avLst/>
            <a:gdLst>
              <a:gd name="textAreaLeft" fmla="*/ 0 w 152640"/>
              <a:gd name="textAreaRight" fmla="*/ 55080 w 15264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4191120" y="6172200"/>
            <a:ext cx="99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6477120" y="6172200"/>
            <a:ext cx="1676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4648320" y="5181480"/>
            <a:ext cx="76176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2209680" y="4876920"/>
            <a:ext cx="60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1676520" y="4495680"/>
            <a:ext cx="152280" cy="167652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609480" y="5105520"/>
            <a:ext cx="99072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609480" y="51055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"/>
          <p:cNvSpPr/>
          <p:nvPr/>
        </p:nvSpPr>
        <p:spPr>
          <a:xfrm>
            <a:off x="685800" y="1981080"/>
            <a:ext cx="7772400" cy="914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NonSelfAcceptanc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609480" y="1219320"/>
            <a:ext cx="784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NonSelfAcceptanc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SelfAccep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685800" y="1981080"/>
            <a:ext cx="7924680" cy="8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NonSelfAcceptance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0, 1}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SelfAccepta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4648320" y="1295280"/>
            <a:ext cx="2057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2971800" y="3110040"/>
            <a:ext cx="13716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2971800" y="31240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4648320" y="3200400"/>
            <a:ext cx="990360" cy="457200"/>
          </a:xfrm>
          <a:prstGeom prst="rightArrow">
            <a:avLst>
              <a:gd name="adj1" fmla="val 50000"/>
              <a:gd name="adj2" fmla="val 5415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533520" y="51814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T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cept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110…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3" name=""/>
          <p:cNvGrpSpPr/>
          <p:nvPr/>
        </p:nvGrpSpPr>
        <p:grpSpPr>
          <a:xfrm>
            <a:off x="4114800" y="4343400"/>
            <a:ext cx="4724280" cy="1175400"/>
            <a:chOff x="4114800" y="4343400"/>
            <a:chExt cx="4724280" cy="1175400"/>
          </a:xfrm>
        </p:grpSpPr>
        <p:sp>
          <p:nvSpPr>
            <p:cNvPr id="1794" name=""/>
            <p:cNvSpPr/>
            <p:nvPr/>
          </p:nvSpPr>
          <p:spPr>
            <a:xfrm>
              <a:off x="8077320" y="4647960"/>
              <a:ext cx="30456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4114800" y="4343400"/>
              <a:ext cx="1371600" cy="533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5486400" y="441936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6172200" y="4419360"/>
              <a:ext cx="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8001000" y="4571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5715000" y="464796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5638680" y="4571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6858000" y="457164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6934320" y="49528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6934320" y="46479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4114800" y="434340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M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6019920" y="4647960"/>
              <a:ext cx="30456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5943600" y="4571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6324480" y="464796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6248520" y="4571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6629400" y="464796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6553080" y="4571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7315200" y="457164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7543800" y="49528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7543800" y="46479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7772400" y="464796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7696080" y="4571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8305920" y="457164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8381880" y="49528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8381880" y="46479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 flipV="1" rot="5400000">
              <a:off x="6820200" y="3847680"/>
              <a:ext cx="151920" cy="2362320"/>
            </a:xfrm>
            <a:custGeom>
              <a:avLst/>
              <a:gdLst>
                <a:gd name="textAreaLeft" fmla="*/ 0 w 151920"/>
                <a:gd name="textAreaRight" fmla="*/ 54720 w 151920"/>
                <a:gd name="textAreaTop" fmla="*/ 61560 h 2362320"/>
                <a:gd name="textAreaBottom" fmla="*/ 2300760 h 236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6553080" y="5028840"/>
              <a:ext cx="990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1" name=""/>
          <p:cNvGrpSpPr/>
          <p:nvPr/>
        </p:nvGrpSpPr>
        <p:grpSpPr>
          <a:xfrm>
            <a:off x="914400" y="5715000"/>
            <a:ext cx="7391520" cy="986040"/>
            <a:chOff x="914400" y="5715000"/>
            <a:chExt cx="7391520" cy="986040"/>
          </a:xfrm>
        </p:grpSpPr>
        <p:sp>
          <p:nvSpPr>
            <p:cNvPr id="1822" name=""/>
            <p:cNvSpPr/>
            <p:nvPr/>
          </p:nvSpPr>
          <p:spPr>
            <a:xfrm>
              <a:off x="914400" y="6156360"/>
              <a:ext cx="34290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NonSelfAcceptanc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4876920" y="6156360"/>
              <a:ext cx="34290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NonS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elfAcceptanc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 flipH="1">
              <a:off x="1904760" y="5715000"/>
              <a:ext cx="2514600" cy="533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3200400" y="5791320"/>
              <a:ext cx="9144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Y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4724280" y="5715000"/>
              <a:ext cx="2362320" cy="6098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 flipH="1">
              <a:off x="5029200" y="5791320"/>
              <a:ext cx="9144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8" name=""/>
          <p:cNvSpPr/>
          <p:nvPr/>
        </p:nvSpPr>
        <p:spPr>
          <a:xfrm>
            <a:off x="3809880" y="3886200"/>
            <a:ext cx="2667240" cy="304920"/>
          </a:xfrm>
          <a:prstGeom prst="downArrow">
            <a:avLst>
              <a:gd name="adj1" fmla="val 49278"/>
              <a:gd name="adj2" fmla="val 5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9" name=""/>
          <p:cNvGrpSpPr/>
          <p:nvPr/>
        </p:nvGrpSpPr>
        <p:grpSpPr>
          <a:xfrm>
            <a:off x="5562720" y="3124080"/>
            <a:ext cx="2971800" cy="826920"/>
            <a:chOff x="5562720" y="3124080"/>
            <a:chExt cx="2971800" cy="826920"/>
          </a:xfrm>
        </p:grpSpPr>
        <p:sp>
          <p:nvSpPr>
            <p:cNvPr id="1830" name=""/>
            <p:cNvSpPr/>
            <p:nvPr/>
          </p:nvSpPr>
          <p:spPr>
            <a:xfrm>
              <a:off x="5638680" y="3124080"/>
              <a:ext cx="266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escription o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5562720" y="3430440"/>
              <a:ext cx="29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110…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NonSelfAcceptanc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685800" y="1219320"/>
            <a:ext cx="7772400" cy="609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685800" y="1219320"/>
            <a:ext cx="76960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NonSelfAcceptanc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accept b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 u="sng">
                <a:solidFill>
                  <a:srgbClr val="ff0000"/>
                </a:solidFill>
                <a:uFillTx/>
                <a:latin typeface="Times New Roman"/>
              </a:rPr>
              <a:t>n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609480" y="1828800"/>
            <a:ext cx="5181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roo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y contradiction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609480" y="2286000"/>
            <a:ext cx="80010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onSelfAccept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ccepted by a T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this infinite table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990720" y="3657600"/>
            <a:ext cx="761760" cy="10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1070640" y="4495680"/>
            <a:ext cx="66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990720" y="3733920"/>
            <a:ext cx="0" cy="10666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 rot="16200000">
            <a:off x="-73440" y="4111920"/>
            <a:ext cx="17524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ll T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1066680" y="3200400"/>
            <a:ext cx="7467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elfAccepta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1828800" y="32767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5638680" y="32767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914400" y="3657600"/>
            <a:ext cx="7391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1828800" y="3657600"/>
            <a:ext cx="37339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100100100110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1010101111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10010001010001001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5638680" y="3657600"/>
            <a:ext cx="12193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3280320" y="4495680"/>
            <a:ext cx="66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5794920" y="4495680"/>
            <a:ext cx="66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685800" y="5029200"/>
            <a:ext cx="792468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elfAcceptanc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Ye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SelfAccepta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No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SelfAccepta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NonSelfAcceptanc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533520" y="1143000"/>
            <a:ext cx="815328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i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onSelfAccept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 1, …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onSelfAccep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533520" y="2057400"/>
            <a:ext cx="838188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Selfacceptanc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N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mpl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impl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NonSelfAcceptance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mpl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533520" y="4114800"/>
            <a:ext cx="838188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Selfacceptanc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Y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mpl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impl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NonSelfAcceptance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mpl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533520" y="6172200"/>
            <a:ext cx="8001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onSelfAccept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ccepted b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M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8" name=""/>
          <p:cNvGrpSpPr/>
          <p:nvPr/>
        </p:nvGrpSpPr>
        <p:grpSpPr>
          <a:xfrm>
            <a:off x="3429000" y="2743200"/>
            <a:ext cx="3048120" cy="1404360"/>
            <a:chOff x="3429000" y="2743200"/>
            <a:chExt cx="3048120" cy="1404360"/>
          </a:xfrm>
        </p:grpSpPr>
        <p:sp>
          <p:nvSpPr>
            <p:cNvPr id="1859" name=""/>
            <p:cNvSpPr/>
            <p:nvPr/>
          </p:nvSpPr>
          <p:spPr>
            <a:xfrm>
              <a:off x="3809880" y="3657600"/>
              <a:ext cx="2667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contradictio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 flipH="1">
              <a:off x="3581280" y="3505320"/>
              <a:ext cx="379440" cy="37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47859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478595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 flipH="1">
              <a:off x="3429000" y="2743200"/>
              <a:ext cx="636480" cy="1141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47859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478595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2" name=""/>
          <p:cNvGrpSpPr/>
          <p:nvPr/>
        </p:nvGrpSpPr>
        <p:grpSpPr>
          <a:xfrm>
            <a:off x="3429000" y="4800600"/>
            <a:ext cx="3048120" cy="1404360"/>
            <a:chOff x="3429000" y="4800600"/>
            <a:chExt cx="3048120" cy="1404360"/>
          </a:xfrm>
        </p:grpSpPr>
        <p:sp>
          <p:nvSpPr>
            <p:cNvPr id="1863" name=""/>
            <p:cNvSpPr/>
            <p:nvPr/>
          </p:nvSpPr>
          <p:spPr>
            <a:xfrm>
              <a:off x="3809880" y="5715000"/>
              <a:ext cx="2667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contradictio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 flipH="1">
              <a:off x="3581280" y="5562720"/>
              <a:ext cx="379440" cy="37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47859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478595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 flipH="1">
              <a:off x="3429000" y="4800600"/>
              <a:ext cx="636480" cy="1141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47859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478595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520560" y="1104840"/>
            <a:ext cx="80773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Gist: Recursive Language accepts TM that always hal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609480" y="23623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762120" y="1600200"/>
            <a:ext cx="761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language.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DTM that always halts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cursive langu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673200" y="3327480"/>
            <a:ext cx="7772400" cy="1054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673200" y="3327480"/>
            <a:ext cx="8153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 family of recursive languages is closed under complement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685800" y="4952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609480" y="44197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693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685800" y="5105520"/>
            <a:ext cx="7772400" cy="1054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685800" y="5105520"/>
            <a:ext cx="8153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 family of recursively enumerable languages is </a:t>
            </a:r>
            <a:r>
              <a:rPr b="1" lang="cs-CZ" sz="3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closed under complement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622440" y="6197760"/>
            <a:ext cx="783576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e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SelfAccepta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ther Hierarchy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1219320" y="3276720"/>
            <a:ext cx="6476760" cy="2361960"/>
          </a:xfrm>
          <a:prstGeom prst="ellipse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1447920" y="3505320"/>
            <a:ext cx="5029200" cy="190476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1676520" y="3657600"/>
            <a:ext cx="3581280" cy="160020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304920" y="1219320"/>
            <a:ext cx="3047760" cy="1361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he family of 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ecursive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accepted by TMs that always hal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 flipH="1" flipV="1">
            <a:off x="1676520" y="2590920"/>
            <a:ext cx="457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4038480" y="1219320"/>
            <a:ext cx="2895840" cy="1361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he family of 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ec. enumerbale language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accepted by TM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7620120" y="1219320"/>
            <a:ext cx="1066680" cy="14403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All Lang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 flipV="1">
            <a:off x="4800600" y="2590560"/>
            <a:ext cx="685800" cy="990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 flipV="1">
            <a:off x="7086600" y="2590560"/>
            <a:ext cx="1143000" cy="1143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3124080" y="5867280"/>
            <a:ext cx="2667240" cy="613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SelfAccepta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5943600" y="5867280"/>
            <a:ext cx="2666880" cy="613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NonSelfAccepta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 flipH="1" flipV="1">
            <a:off x="7009920" y="4572000"/>
            <a:ext cx="38124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 flipV="1">
            <a:off x="5181480" y="4572000"/>
            <a:ext cx="457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2971800" y="129528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6553080" y="129528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2438280" y="44197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2895480" y="41911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3124080" y="45720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3886200" y="41911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3962520" y="46483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219320" y="27432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1295280"/>
            <a:ext cx="7772400" cy="2362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03320" y="1371600"/>
            <a:ext cx="303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901520" y="2057400"/>
            <a:ext cx="54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the initial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14400" y="23623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901520" y="2819520"/>
            <a:ext cx="487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a final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45760" y="3886200"/>
            <a:ext cx="393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b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" y="3809880"/>
            <a:ext cx="7772400" cy="259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1447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9528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295280" y="2819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952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526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828800" y="42670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81080" y="3809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phical 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146120" y="4724280"/>
            <a:ext cx="39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b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95280" y="4800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352680" y="4800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828800" y="51055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81080" y="46483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46120" y="5638680"/>
            <a:ext cx="395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b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295280" y="5715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5715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828800" y="60199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81080" y="55627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ring Machin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1219320"/>
            <a:ext cx="3429000" cy="5486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38080" y="1143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62120" y="22860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38080" y="1523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429000" y="1600200"/>
            <a:ext cx="1752480" cy="914400"/>
            <a:chOff x="3429000" y="1600200"/>
            <a:chExt cx="1752480" cy="914400"/>
          </a:xfrm>
        </p:grpSpPr>
        <p:sp>
          <p:nvSpPr>
            <p:cNvPr id="243" name=""/>
            <p:cNvSpPr/>
            <p:nvPr/>
          </p:nvSpPr>
          <p:spPr>
            <a:xfrm>
              <a:off x="4724280" y="2514600"/>
              <a:ext cx="457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9000" y="1600200"/>
              <a:ext cx="114300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762120" y="266688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62120" y="1905120"/>
            <a:ext cx="7315200" cy="3504960"/>
            <a:chOff x="762120" y="1905120"/>
            <a:chExt cx="7315200" cy="3504960"/>
          </a:xfrm>
        </p:grpSpPr>
        <p:sp>
          <p:nvSpPr>
            <p:cNvPr id="247" name=""/>
            <p:cNvSpPr/>
            <p:nvPr/>
          </p:nvSpPr>
          <p:spPr>
            <a:xfrm>
              <a:off x="5181480" y="21337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181480" y="4724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391520" y="4724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2120" y="190512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391520" y="21337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762120" y="2209680"/>
            <a:ext cx="7238880" cy="4483080"/>
            <a:chOff x="762120" y="2209680"/>
            <a:chExt cx="7238880" cy="4483080"/>
          </a:xfrm>
        </p:grpSpPr>
        <p:sp>
          <p:nvSpPr>
            <p:cNvPr id="253" name=""/>
            <p:cNvSpPr/>
            <p:nvPr/>
          </p:nvSpPr>
          <p:spPr>
            <a:xfrm>
              <a:off x="762120" y="617220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 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467480" y="2209680"/>
              <a:ext cx="53352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1066680" y="4343400"/>
            <a:ext cx="6019920" cy="1066320"/>
            <a:chOff x="1066680" y="4343400"/>
            <a:chExt cx="6019920" cy="1066320"/>
          </a:xfrm>
        </p:grpSpPr>
        <p:grpSp>
          <p:nvGrpSpPr>
            <p:cNvPr id="256" name=""/>
            <p:cNvGrpSpPr/>
            <p:nvPr/>
          </p:nvGrpSpPr>
          <p:grpSpPr>
            <a:xfrm>
              <a:off x="5761080" y="4343400"/>
              <a:ext cx="1325520" cy="1066320"/>
              <a:chOff x="5761080" y="4343400"/>
              <a:chExt cx="1325520" cy="1066320"/>
            </a:xfrm>
          </p:grpSpPr>
          <p:sp>
            <p:nvSpPr>
              <p:cNvPr id="257" name=""/>
              <p:cNvSpPr/>
              <p:nvPr/>
            </p:nvSpPr>
            <p:spPr>
              <a:xfrm rot="5400000">
                <a:off x="5662080" y="4823280"/>
                <a:ext cx="685440" cy="487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019920" y="434340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R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9" name=""/>
            <p:cNvSpPr/>
            <p:nvPr/>
          </p:nvSpPr>
          <p:spPr>
            <a:xfrm>
              <a:off x="1066680" y="4572000"/>
              <a:ext cx="259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67320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1143000" y="2787840"/>
            <a:ext cx="4647240" cy="1936800"/>
            <a:chOff x="1143000" y="2787840"/>
            <a:chExt cx="4647240" cy="1936800"/>
          </a:xfrm>
        </p:grpSpPr>
        <p:sp>
          <p:nvSpPr>
            <p:cNvPr id="261" name=""/>
            <p:cNvSpPr/>
            <p:nvPr/>
          </p:nvSpPr>
          <p:spPr>
            <a:xfrm>
              <a:off x="1143000" y="3429000"/>
              <a:ext cx="259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571680"/>
                  <a:tab algn="l" pos="1054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4191120" y="2787840"/>
              <a:ext cx="1599120" cy="1936800"/>
              <a:chOff x="4191120" y="2787840"/>
              <a:chExt cx="1599120" cy="1936800"/>
            </a:xfrm>
          </p:grpSpPr>
          <p:sp>
            <p:nvSpPr>
              <p:cNvPr id="263" name=""/>
              <p:cNvSpPr/>
              <p:nvPr/>
            </p:nvSpPr>
            <p:spPr>
              <a:xfrm flipH="1" rot="16200000">
                <a:off x="4516560" y="3451320"/>
                <a:ext cx="193680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53" y="8060"/>
                    </a:moveTo>
                    <a:arcTo wR="10800" hR="10800" stAng="-9918206" swAng="97761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53" y="8060"/>
                    </a:moveTo>
                    <a:arcTo wR="10800" hR="10800" stAng="-9918206" swAng="9776164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304812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R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5" name=""/>
          <p:cNvGrpSpPr/>
          <p:nvPr/>
        </p:nvGrpSpPr>
        <p:grpSpPr>
          <a:xfrm>
            <a:off x="1066680" y="2787840"/>
            <a:ext cx="5715000" cy="1936800"/>
            <a:chOff x="1066680" y="2787840"/>
            <a:chExt cx="5715000" cy="1936800"/>
          </a:xfrm>
        </p:grpSpPr>
        <p:sp>
          <p:nvSpPr>
            <p:cNvPr id="266" name=""/>
            <p:cNvSpPr/>
            <p:nvPr/>
          </p:nvSpPr>
          <p:spPr>
            <a:xfrm>
              <a:off x="1066680" y="3809880"/>
              <a:ext cx="2667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67320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5334120" y="2787840"/>
              <a:ext cx="1447560" cy="1936800"/>
              <a:chOff x="5334120" y="2787840"/>
              <a:chExt cx="1447560" cy="1936800"/>
            </a:xfrm>
          </p:grpSpPr>
          <p:sp>
            <p:nvSpPr>
              <p:cNvPr id="268" name=""/>
              <p:cNvSpPr/>
              <p:nvPr/>
            </p:nvSpPr>
            <p:spPr>
              <a:xfrm rot="5400000">
                <a:off x="4593960" y="3527640"/>
                <a:ext cx="193680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53" y="8060"/>
                    </a:moveTo>
                    <a:arcTo wR="10800" hR="10800" stAng="-9918206" swAng="97761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53" y="8060"/>
                    </a:moveTo>
                    <a:arcTo wR="10800" hR="10800" stAng="-9918206" swAng="9776164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715000" y="304812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R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0" name=""/>
          <p:cNvGrpSpPr/>
          <p:nvPr/>
        </p:nvGrpSpPr>
        <p:grpSpPr>
          <a:xfrm>
            <a:off x="990720" y="2818800"/>
            <a:ext cx="8001000" cy="3035880"/>
            <a:chOff x="990720" y="2818800"/>
            <a:chExt cx="8001000" cy="3035880"/>
          </a:xfrm>
        </p:grpSpPr>
        <p:sp>
          <p:nvSpPr>
            <p:cNvPr id="271" name=""/>
            <p:cNvSpPr/>
            <p:nvPr/>
          </p:nvSpPr>
          <p:spPr>
            <a:xfrm>
              <a:off x="990720" y="533412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76212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7543440" y="2818800"/>
              <a:ext cx="1448280" cy="1936800"/>
              <a:chOff x="7543440" y="2818800"/>
              <a:chExt cx="1448280" cy="1936800"/>
            </a:xfrm>
          </p:grpSpPr>
          <p:sp>
            <p:nvSpPr>
              <p:cNvPr id="273" name=""/>
              <p:cNvSpPr/>
              <p:nvPr/>
            </p:nvSpPr>
            <p:spPr>
              <a:xfrm>
                <a:off x="7924680" y="3505320"/>
                <a:ext cx="1067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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 rot="16200000">
                <a:off x="6803280" y="3558600"/>
                <a:ext cx="193680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53" y="8060"/>
                    </a:moveTo>
                    <a:arcTo wR="10800" hR="10800" stAng="-9918206" swAng="97761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53" y="8060"/>
                    </a:moveTo>
                    <a:arcTo wR="10800" hR="10800" stAng="-9918206" swAng="9776164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5" name=""/>
          <p:cNvGrpSpPr/>
          <p:nvPr/>
        </p:nvGrpSpPr>
        <p:grpSpPr>
          <a:xfrm>
            <a:off x="990720" y="2818800"/>
            <a:ext cx="6933240" cy="3416760"/>
            <a:chOff x="990720" y="2818800"/>
            <a:chExt cx="6933240" cy="3416760"/>
          </a:xfrm>
        </p:grpSpPr>
        <p:sp>
          <p:nvSpPr>
            <p:cNvPr id="276" name=""/>
            <p:cNvSpPr/>
            <p:nvPr/>
          </p:nvSpPr>
          <p:spPr>
            <a:xfrm>
              <a:off x="990720" y="571500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76212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6477120" y="2818800"/>
              <a:ext cx="1446840" cy="1936800"/>
              <a:chOff x="6477120" y="2818800"/>
              <a:chExt cx="1446840" cy="1936800"/>
            </a:xfrm>
          </p:grpSpPr>
          <p:sp>
            <p:nvSpPr>
              <p:cNvPr id="278" name=""/>
              <p:cNvSpPr/>
              <p:nvPr/>
            </p:nvSpPr>
            <p:spPr>
              <a:xfrm flipH="1" flipV="1" rot="5400000">
                <a:off x="6726600" y="3558600"/>
                <a:ext cx="193680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53" y="8060"/>
                    </a:moveTo>
                    <a:arcTo wR="10800" hR="10800" stAng="-9918206" swAng="97761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53" y="8060"/>
                    </a:moveTo>
                    <a:arcTo wR="10800" hR="10800" stAng="-9918206" swAng="9776164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477120" y="3505320"/>
                <a:ext cx="1143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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0" name=""/>
          <p:cNvGrpSpPr/>
          <p:nvPr/>
        </p:nvGrpSpPr>
        <p:grpSpPr>
          <a:xfrm>
            <a:off x="990720" y="4952880"/>
            <a:ext cx="6705360" cy="609480"/>
            <a:chOff x="990720" y="4952880"/>
            <a:chExt cx="6705360" cy="609480"/>
          </a:xfrm>
        </p:grpSpPr>
        <p:sp>
          <p:nvSpPr>
            <p:cNvPr id="281" name=""/>
            <p:cNvSpPr/>
            <p:nvPr/>
          </p:nvSpPr>
          <p:spPr>
            <a:xfrm>
              <a:off x="990720" y="495288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76212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lang="en-US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2" name=""/>
            <p:cNvGrpSpPr/>
            <p:nvPr/>
          </p:nvGrpSpPr>
          <p:grpSpPr>
            <a:xfrm>
              <a:off x="5529600" y="5029200"/>
              <a:ext cx="2166480" cy="533160"/>
              <a:chOff x="5529600" y="5029200"/>
              <a:chExt cx="2166480" cy="533160"/>
            </a:xfrm>
          </p:grpSpPr>
          <p:sp>
            <p:nvSpPr>
              <p:cNvPr id="283" name=""/>
              <p:cNvSpPr/>
              <p:nvPr/>
            </p:nvSpPr>
            <p:spPr>
              <a:xfrm flipH="1" rot="10800000">
                <a:off x="5529240" y="5105520"/>
                <a:ext cx="201420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53" y="8060"/>
                    </a:moveTo>
                    <a:arcTo wR="10800" hR="10800" stAng="-9918206" swAng="97761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53" y="8060"/>
                    </a:moveTo>
                    <a:arcTo wR="10800" hR="10800" stAng="-9918206" swAng="9776164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324480" y="5029200"/>
                <a:ext cx="1371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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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L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5" name=""/>
          <p:cNvGrpSpPr/>
          <p:nvPr/>
        </p:nvGrpSpPr>
        <p:grpSpPr>
          <a:xfrm>
            <a:off x="1066680" y="4191120"/>
            <a:ext cx="4221360" cy="1218600"/>
            <a:chOff x="1066680" y="4191120"/>
            <a:chExt cx="4221360" cy="1218600"/>
          </a:xfrm>
        </p:grpSpPr>
        <p:sp>
          <p:nvSpPr>
            <p:cNvPr id="286" name=""/>
            <p:cNvSpPr/>
            <p:nvPr/>
          </p:nvSpPr>
          <p:spPr>
            <a:xfrm>
              <a:off x="1066680" y="4191120"/>
              <a:ext cx="259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67320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4114800" y="4343400"/>
              <a:ext cx="1173240" cy="1066320"/>
              <a:chOff x="4114800" y="4343400"/>
              <a:chExt cx="1173240" cy="1066320"/>
            </a:xfrm>
          </p:grpSpPr>
          <p:sp>
            <p:nvSpPr>
              <p:cNvPr id="288" name=""/>
              <p:cNvSpPr/>
              <p:nvPr/>
            </p:nvSpPr>
            <p:spPr>
              <a:xfrm flipH="1" rot="16200000">
                <a:off x="4701600" y="4823280"/>
                <a:ext cx="685440" cy="487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114800" y="434340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R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0" name=""/>
          <p:cNvGrpSpPr/>
          <p:nvPr/>
        </p:nvGrpSpPr>
        <p:grpSpPr>
          <a:xfrm>
            <a:off x="762120" y="1828800"/>
            <a:ext cx="6629400" cy="1739880"/>
            <a:chOff x="762120" y="1828800"/>
            <a:chExt cx="6629400" cy="1739880"/>
          </a:xfrm>
        </p:grpSpPr>
        <p:sp>
          <p:nvSpPr>
            <p:cNvPr id="291" name=""/>
            <p:cNvSpPr/>
            <p:nvPr/>
          </p:nvSpPr>
          <p:spPr>
            <a:xfrm>
              <a:off x="762120" y="3048120"/>
              <a:ext cx="32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5841720" y="1828800"/>
              <a:ext cx="1549800" cy="761040"/>
              <a:chOff x="5841720" y="1828800"/>
              <a:chExt cx="1549800" cy="761040"/>
            </a:xfrm>
          </p:grpSpPr>
          <p:sp>
            <p:nvSpPr>
              <p:cNvPr id="293" name=""/>
              <p:cNvSpPr/>
              <p:nvPr/>
            </p:nvSpPr>
            <p:spPr>
              <a:xfrm>
                <a:off x="6019920" y="1828800"/>
                <a:ext cx="1371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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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 flipV="1" rot="10800000">
                <a:off x="5841360" y="2285280"/>
                <a:ext cx="15498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53" y="8060"/>
                    </a:moveTo>
                    <a:arcTo wR="10800" hR="10800" stAng="-9918206" swAng="97761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53" y="8060"/>
                    </a:moveTo>
                    <a:arcTo wR="10800" hR="10800" stAng="-9918206" swAng="9776164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ring Machin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095880" y="266688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1992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876920" y="2362320"/>
            <a:ext cx="914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181480" y="2438280"/>
            <a:ext cx="38124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91320" y="2438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248520" y="24382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400800" y="266688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32448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705720" y="266688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62940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010280" y="266688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315200" y="2666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3152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93432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114800" y="1143000"/>
            <a:ext cx="44197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deletes a symbol before the first occurrence of </a:t>
            </a:r>
            <a:r>
              <a:rPr b="1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914400" y="251460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5400000">
            <a:off x="1851840" y="4823280"/>
            <a:ext cx="685440" cy="487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57400" y="43434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371600" y="4724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276720" y="4724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371600" y="2133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276720" y="2133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352680" y="2209680"/>
            <a:ext cx="533520" cy="5335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09880" y="35812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rot="5400000">
            <a:off x="783720" y="3527640"/>
            <a:ext cx="193680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53" y="8060"/>
                </a:moveTo>
                <a:arcTo wR="10800" hR="10800" stAng="-9918206" swAng="9776164"/>
                <a:lnTo>
                  <a:pt x="10800" y="10800"/>
                </a:lnTo>
                <a:close/>
              </a:path>
              <a:path fill="none" w="21600" h="21600">
                <a:moveTo>
                  <a:pt x="353" y="8060"/>
                </a:moveTo>
                <a:arcTo wR="10800" hR="10800" stAng="-9918206" swAng="977616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 rot="16200000">
            <a:off x="891720" y="4823280"/>
            <a:ext cx="685440" cy="487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43434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 rot="16200000">
            <a:off x="706680" y="3451320"/>
            <a:ext cx="19368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53" y="8060"/>
                </a:moveTo>
                <a:arcTo wR="10800" hR="10800" stAng="-9918206" swAng="9776164"/>
                <a:lnTo>
                  <a:pt x="10800" y="10800"/>
                </a:lnTo>
                <a:close/>
              </a:path>
              <a:path fill="none" w="21600" h="21600">
                <a:moveTo>
                  <a:pt x="353" y="8060"/>
                </a:moveTo>
                <a:arcTo wR="10800" hR="10800" stAng="-9918206" swAng="977616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30481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05120" y="30481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 rot="16200000">
            <a:off x="2688480" y="3558600"/>
            <a:ext cx="193680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53" y="8060"/>
                </a:moveTo>
                <a:arcTo wR="10800" hR="10800" stAng="-9918206" swAng="9776164"/>
                <a:lnTo>
                  <a:pt x="10800" y="10800"/>
                </a:lnTo>
                <a:close/>
              </a:path>
              <a:path fill="none" w="21600" h="21600">
                <a:moveTo>
                  <a:pt x="353" y="8060"/>
                </a:moveTo>
                <a:arcTo wR="10800" hR="10800" stAng="-9918206" swAng="977616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 flipV="1" rot="5400000">
            <a:off x="2611800" y="3558600"/>
            <a:ext cx="193680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53" y="8060"/>
                </a:moveTo>
                <a:arcTo wR="10800" hR="10800" stAng="-9918206" swAng="9776164"/>
                <a:lnTo>
                  <a:pt x="10800" y="10800"/>
                </a:lnTo>
                <a:close/>
              </a:path>
              <a:path fill="none" w="21600" h="21600">
                <a:moveTo>
                  <a:pt x="353" y="8060"/>
                </a:moveTo>
                <a:arcTo wR="10800" hR="10800" stAng="-9918206" swAng="977616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 rot="10800000">
            <a:off x="1724040" y="5105520"/>
            <a:ext cx="170460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53" y="8060"/>
                </a:moveTo>
                <a:arcTo wR="10800" hR="10800" stAng="-9918206" swAng="9776164"/>
                <a:lnTo>
                  <a:pt x="10800" y="10800"/>
                </a:lnTo>
                <a:close/>
              </a:path>
              <a:path fill="none" w="21600" h="21600">
                <a:moveTo>
                  <a:pt x="353" y="8060"/>
                </a:moveTo>
                <a:arcTo wR="10800" hR="10800" stAng="-9918206" swAng="977616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62320" y="3581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133720" y="54864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209680" y="1828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 flipV="1" rot="10800000">
            <a:off x="2036520" y="2285280"/>
            <a:ext cx="123948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53" y="8060"/>
                </a:moveTo>
                <a:arcTo wR="10800" hR="10800" stAng="-9918206" swAng="9776164"/>
                <a:lnTo>
                  <a:pt x="10800" y="10800"/>
                </a:lnTo>
                <a:close/>
              </a:path>
              <a:path fill="none" w="21600" h="21600">
                <a:moveTo>
                  <a:pt x="353" y="8060"/>
                </a:moveTo>
                <a:arcTo wR="10800" hR="10800" stAng="-9918206" swAng="977616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114800" y="182880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85800" y="137160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M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315200" y="29718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4876920" y="2971800"/>
            <a:ext cx="2971800" cy="993240"/>
            <a:chOff x="4876920" y="2971800"/>
            <a:chExt cx="2971800" cy="993240"/>
          </a:xfrm>
        </p:grpSpPr>
        <p:sp>
          <p:nvSpPr>
            <p:cNvPr id="338" name=""/>
            <p:cNvSpPr/>
            <p:nvPr/>
          </p:nvSpPr>
          <p:spPr>
            <a:xfrm>
              <a:off x="7315200" y="3505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095880" y="35812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01992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876920" y="3276720"/>
              <a:ext cx="914400" cy="533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181480" y="3352680"/>
              <a:ext cx="38124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791320" y="33526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553080" y="33526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400800" y="35812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32448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705720" y="3581280"/>
              <a:ext cx="30456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62940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010280" y="35812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315200" y="35812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315200" y="38862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93432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181480" y="29718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4876920" y="3886200"/>
            <a:ext cx="2971800" cy="993240"/>
            <a:chOff x="4876920" y="3886200"/>
            <a:chExt cx="2971800" cy="993240"/>
          </a:xfrm>
        </p:grpSpPr>
        <p:sp>
          <p:nvSpPr>
            <p:cNvPr id="355" name=""/>
            <p:cNvSpPr/>
            <p:nvPr/>
          </p:nvSpPr>
          <p:spPr>
            <a:xfrm>
              <a:off x="6095880" y="44956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019920" y="4419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876920" y="4191120"/>
              <a:ext cx="914400" cy="533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181480" y="4267080"/>
              <a:ext cx="38124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791320" y="426708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58000" y="42670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400800" y="44956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324480" y="4419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705720" y="4495680"/>
              <a:ext cx="30456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629400" y="4419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10280" y="44956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315200" y="4495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31520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315200" y="4419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934320" y="4419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181480" y="38862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4876920" y="4800600"/>
            <a:ext cx="2971800" cy="993240"/>
            <a:chOff x="4876920" y="4800600"/>
            <a:chExt cx="2971800" cy="993240"/>
          </a:xfrm>
        </p:grpSpPr>
        <p:sp>
          <p:nvSpPr>
            <p:cNvPr id="372" name=""/>
            <p:cNvSpPr/>
            <p:nvPr/>
          </p:nvSpPr>
          <p:spPr>
            <a:xfrm>
              <a:off x="6095880" y="54100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019920" y="5334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876920" y="5105520"/>
              <a:ext cx="914400" cy="533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81480" y="5181480"/>
              <a:ext cx="38124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791320" y="51814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553080" y="51814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400800" y="54100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324480" y="5334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705720" y="5410080"/>
              <a:ext cx="30456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629400" y="5334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010280" y="54100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315200" y="54100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315200" y="57150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15200" y="53341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934320" y="5334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181480" y="48006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876920" y="5715000"/>
            <a:ext cx="2971800" cy="993240"/>
            <a:chOff x="4876920" y="5715000"/>
            <a:chExt cx="2971800" cy="993240"/>
          </a:xfrm>
        </p:grpSpPr>
        <p:sp>
          <p:nvSpPr>
            <p:cNvPr id="389" name=""/>
            <p:cNvSpPr/>
            <p:nvPr/>
          </p:nvSpPr>
          <p:spPr>
            <a:xfrm>
              <a:off x="6095880" y="63244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019920" y="6248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876920" y="6019920"/>
              <a:ext cx="914400" cy="533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181480" y="6095880"/>
              <a:ext cx="38124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791320" y="60958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553080" y="60958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400800" y="63244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324480" y="6248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705720" y="6324480"/>
              <a:ext cx="30456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629400" y="6248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010280" y="63244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315200" y="6324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315200" y="66294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315200" y="6248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34320" y="6248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57150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1447920" y="3352680"/>
            <a:ext cx="53316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M Config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Instan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aneous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description of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09480" y="1523880"/>
            <a:ext cx="647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What does a configuration describe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09480" y="1905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rent state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Ta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tents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Pos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495680" y="3276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447920" y="2971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447920" y="31240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590920" y="3124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62120" y="502920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5800" y="495288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configura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 string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p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rot="16200000">
            <a:off x="1409760" y="3009600"/>
            <a:ext cx="228600" cy="1676520"/>
          </a:xfrm>
          <a:custGeom>
            <a:avLst/>
            <a:gdLst>
              <a:gd name="textAreaLeft" fmla="*/ 146160 w 228600"/>
              <a:gd name="textAreaRight" fmla="*/ 228960 w 228600"/>
              <a:gd name="textAreaTop" fmla="*/ 78480 h 1676520"/>
              <a:gd name="textAreaBottom" fmla="*/ 159804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17"/>
                  <a:pt x="10800" y="3234"/>
                </a:cubicBezTo>
                <a:lnTo>
                  <a:pt x="10800" y="7566"/>
                </a:lnTo>
                <a:cubicBezTo>
                  <a:pt x="10800" y="9183"/>
                  <a:pt x="5400" y="10800"/>
                  <a:pt x="0" y="10800"/>
                </a:cubicBezTo>
                <a:cubicBezTo>
                  <a:pt x="5400" y="10800"/>
                  <a:pt x="10800" y="12417"/>
                  <a:pt x="10800" y="14034"/>
                </a:cubicBezTo>
                <a:lnTo>
                  <a:pt x="10800" y="18366"/>
                </a:lnTo>
                <a:cubicBezTo>
                  <a:pt x="10800" y="1998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rot="16200000">
            <a:off x="2933640" y="3161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64080 h 1371600"/>
              <a:gd name="textAreaBottom" fmla="*/ 130752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17"/>
                  <a:pt x="10800" y="3234"/>
                </a:cubicBezTo>
                <a:lnTo>
                  <a:pt x="10800" y="7566"/>
                </a:lnTo>
                <a:cubicBezTo>
                  <a:pt x="10800" y="9183"/>
                  <a:pt x="5400" y="10800"/>
                  <a:pt x="0" y="10800"/>
                </a:cubicBezTo>
                <a:cubicBezTo>
                  <a:pt x="5400" y="10800"/>
                  <a:pt x="10800" y="12417"/>
                  <a:pt x="10800" y="14034"/>
                </a:cubicBezTo>
                <a:lnTo>
                  <a:pt x="10800" y="18366"/>
                </a:lnTo>
                <a:cubicBezTo>
                  <a:pt x="10800" y="1998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52880" y="2362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85800" y="33526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8580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990720" y="243828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2514600"/>
            <a:ext cx="38124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981080" y="3352680"/>
            <a:ext cx="38124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066680" y="3352680"/>
            <a:ext cx="38124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352680" y="3352680"/>
            <a:ext cx="38124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495680" y="37339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495680" y="33526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06668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98108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35268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114800" y="33526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11480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819520" y="3276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447920" y="3276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819520" y="3352680"/>
            <a:ext cx="53316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867280" y="3352680"/>
            <a:ext cx="53352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305920" y="3276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638680" y="2971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638680" y="312408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772400" y="3124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rot="16200000">
            <a:off x="6210360" y="2628720"/>
            <a:ext cx="228600" cy="2438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14120 h 2438280"/>
              <a:gd name="textAreaBottom" fmla="*/ 232416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17"/>
                  <a:pt x="10800" y="3234"/>
                </a:cubicBezTo>
                <a:lnTo>
                  <a:pt x="10800" y="7566"/>
                </a:lnTo>
                <a:cubicBezTo>
                  <a:pt x="10800" y="9183"/>
                  <a:pt x="5400" y="10800"/>
                  <a:pt x="0" y="10800"/>
                </a:cubicBezTo>
                <a:cubicBezTo>
                  <a:pt x="5400" y="10800"/>
                  <a:pt x="10800" y="12417"/>
                  <a:pt x="10800" y="14034"/>
                </a:cubicBezTo>
                <a:lnTo>
                  <a:pt x="10800" y="18366"/>
                </a:lnTo>
                <a:cubicBezTo>
                  <a:pt x="10800" y="1998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rot="16200000">
            <a:off x="7619760" y="3657240"/>
            <a:ext cx="228600" cy="380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7640 h 380880"/>
              <a:gd name="textAreaBottom" fmla="*/ 36324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17"/>
                  <a:pt x="10800" y="3234"/>
                </a:cubicBezTo>
                <a:lnTo>
                  <a:pt x="10800" y="7566"/>
                </a:lnTo>
                <a:cubicBezTo>
                  <a:pt x="10800" y="9183"/>
                  <a:pt x="5400" y="10800"/>
                  <a:pt x="0" y="10800"/>
                </a:cubicBezTo>
                <a:cubicBezTo>
                  <a:pt x="5400" y="10800"/>
                  <a:pt x="10800" y="12417"/>
                  <a:pt x="10800" y="14034"/>
                </a:cubicBezTo>
                <a:lnTo>
                  <a:pt x="10800" y="18366"/>
                </a:lnTo>
                <a:cubicBezTo>
                  <a:pt x="10800" y="1998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105520" y="33526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10552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486400" y="243828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715000" y="251460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486400" y="33526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400800" y="33526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305920" y="37339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8305920" y="33526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48640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0080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781680" y="3352680"/>
            <a:ext cx="38124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78168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867280" y="3276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162920" y="33526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16292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543800" y="33526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54380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924680" y="3352680"/>
            <a:ext cx="38124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92468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362320" y="3352680"/>
            <a:ext cx="45720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286000" y="3276720"/>
            <a:ext cx="685800" cy="5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29528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81952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09588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54380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480" y="2438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029200" y="2438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971800" y="42670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guratio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62120" y="4876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733920" y="33526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73392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tationary 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85800" y="1219320"/>
            <a:ext cx="7772400" cy="23619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" y="1143000"/>
            <a:ext cx="8077320" cy="20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be two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tationar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according to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imply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if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" y="3048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480060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733920" y="48006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733920" y="5029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905120" y="480060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209680" y="48006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2209680" y="5029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819520" y="4800600"/>
            <a:ext cx="30456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429000" y="48006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3429000" y="5029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514600" y="48006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2514600" y="5029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74320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13372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35268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62120" y="4495680"/>
            <a:ext cx="76176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990720" y="457200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523880" y="45720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971800" y="45720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819520" y="4800600"/>
            <a:ext cx="0" cy="3049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09480" y="350532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276720" y="40384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352680" y="55627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3962520" y="556272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3962520" y="579096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600200" y="55627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1905120" y="556272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1905120" y="579096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048120" y="5562720"/>
            <a:ext cx="30456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3657600" y="556272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3657600" y="579096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2209320" y="5562720"/>
            <a:ext cx="18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2209680" y="5790960"/>
            <a:ext cx="18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97180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82880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58128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590920" y="556272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590920" y="5105520"/>
            <a:ext cx="228600" cy="533160"/>
          </a:xfrm>
          <a:custGeom>
            <a:avLst/>
            <a:gdLst/>
            <a:ahLst/>
            <a:rect l="l" t="t" r="r" b="b"/>
            <a:pathLst>
              <a:path w="144" h="336">
                <a:moveTo>
                  <a:pt x="144" y="0"/>
                </a:moveTo>
                <a:cubicBezTo>
                  <a:pt x="132" y="68"/>
                  <a:pt x="120" y="136"/>
                  <a:pt x="96" y="192"/>
                </a:cubicBezTo>
                <a:cubicBezTo>
                  <a:pt x="72" y="248"/>
                  <a:pt x="36" y="292"/>
                  <a:pt x="0" y="33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2818800" y="5181480"/>
            <a:ext cx="152280" cy="457200"/>
          </a:xfrm>
          <a:custGeom>
            <a:avLst/>
            <a:gdLst/>
            <a:ahLst/>
            <a:rect l="l" t="t" r="r" b="b"/>
            <a:pathLst>
              <a:path w="144" h="336">
                <a:moveTo>
                  <a:pt x="144" y="0"/>
                </a:moveTo>
                <a:cubicBezTo>
                  <a:pt x="132" y="68"/>
                  <a:pt x="120" y="136"/>
                  <a:pt x="96" y="192"/>
                </a:cubicBezTo>
                <a:cubicBezTo>
                  <a:pt x="72" y="248"/>
                  <a:pt x="36" y="292"/>
                  <a:pt x="0" y="33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rot="5400000">
            <a:off x="2857320" y="4609800"/>
            <a:ext cx="152280" cy="2819520"/>
          </a:xfrm>
          <a:custGeom>
            <a:avLst/>
            <a:gdLst>
              <a:gd name="textAreaLeft" fmla="*/ 0 w 152280"/>
              <a:gd name="textAreaRight" fmla="*/ 55080 w 15228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828800" y="60199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419720" y="4572000"/>
            <a:ext cx="4419360" cy="1983600"/>
            <a:chOff x="4419720" y="4572000"/>
            <a:chExt cx="4419360" cy="1983600"/>
          </a:xfrm>
        </p:grpSpPr>
        <p:sp>
          <p:nvSpPr>
            <p:cNvPr id="523" name=""/>
            <p:cNvSpPr/>
            <p:nvPr/>
          </p:nvSpPr>
          <p:spPr>
            <a:xfrm>
              <a:off x="4419720" y="4724280"/>
              <a:ext cx="685800" cy="12193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620120" y="48769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229600" y="48769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>
              <a:off x="8229600" y="51051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400800" y="48769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705720" y="48769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V="1">
              <a:off x="6705720" y="51051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315200" y="4876920"/>
              <a:ext cx="304920" cy="304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924680" y="48769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7924680" y="51051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010280" y="48769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7010280" y="51051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238880" y="4800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629400" y="4800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848720" y="4800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257800" y="4572000"/>
              <a:ext cx="76212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486400" y="4648320"/>
              <a:ext cx="38088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019920" y="464832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467480" y="46483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315200" y="4876920"/>
              <a:ext cx="0" cy="304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848720" y="56386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8458200" y="56386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8458200" y="58672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095880" y="56386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>
              <a:off x="6400800" y="56386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6400800" y="58672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543800" y="5638680"/>
              <a:ext cx="304920" cy="304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8152920" y="5638680"/>
              <a:ext cx="180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8153280" y="5867280"/>
              <a:ext cx="180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6705720" y="56386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6705720" y="58672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467480" y="5562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324480" y="5562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077320" y="5562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086600" y="5638680"/>
              <a:ext cx="38088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600" y="5181480"/>
              <a:ext cx="228600" cy="53352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7314480" y="5257800"/>
              <a:ext cx="152280" cy="45720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rot="5400000">
              <a:off x="7353000" y="4686480"/>
              <a:ext cx="152280" cy="28191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3440 h 2819160"/>
                <a:gd name="textAreaBottom" fmla="*/ 2745720 h 281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019920" y="6095880"/>
              <a:ext cx="281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w 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6-08-10T14:23:41Z</dcterms:modified>
  <cp:revision>245</cp:revision>
  <dc:subject/>
  <dc:title>Beyond the Context-Free Languages</dc:title>
</cp:coreProperties>
</file>